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0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33.png" ContentType="image/png"/>
  <Override PartName="/ppt/media/image8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35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BF836-040B-471B-A9B9-C436F52F2D7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Clicking the button will lead back to the first page (Objectives) where you can choose another top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B308-11CD-407B-9EDB-4F1AE59D1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534B-3745-4948-878D-B7997B9BC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844A-C37C-43A9-839E-B7754E7F1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89B6-D767-42D7-B280-DB483C2DA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035C5-7C33-4FC6-89B4-15B889453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53B41-3141-4792-8FEE-1831815F0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655F9-A7A2-42D7-85D7-D28EF738F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9DC2C-62E2-4E27-82B7-848E48249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E4C37-9672-4423-93DE-8324EDEA8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B9163-57CD-4E8F-A6E0-630D5F2AC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69361-C5ED-4242-BC7C-8087DE0B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EDFD-47F4-457C-85D6-2C13C04B1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36ED4-6B02-4B88-BBDC-113B46BF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4F16F-6641-4B4C-9323-88259C16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0F531-6E56-4230-BEA0-4A2ED0F4D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64B01-8199-45C2-B980-3CFB22292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8145A-00AB-4622-B62F-92C61F811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FF05-0EE5-4DEA-8DE0-AED952127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228F-604B-4A84-9140-1A2EE1A70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A3E3-894F-4B5D-AA2E-917D71AF9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1943-1519-4B1B-B334-63B468E66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9B87-4323-4A8C-BBF4-6FBAAB29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8350-706F-4BDA-89ED-99346599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17D8-F9BD-4ADD-AC44-B065D899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1BA50-DC52-4DDC-A660-8B13BF8BAD19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DDE50-CA5F-4648-AEBA-604DAD7E951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18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44.xml"/><Relationship Id="rId10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slide" Target="slide21.xml"/><Relationship Id="rId4" Type="http://schemas.openxmlformats.org/officeDocument/2006/relationships/slide" Target="slide21.xml"/><Relationship Id="rId5" Type="http://schemas.openxmlformats.org/officeDocument/2006/relationships/slide" Target="slide21.xml"/><Relationship Id="rId6" Type="http://schemas.openxmlformats.org/officeDocument/2006/relationships/slide" Target="slide29.xml"/><Relationship Id="rId7" Type="http://schemas.openxmlformats.org/officeDocument/2006/relationships/slide" Target="slide29.xml"/><Relationship Id="rId8" Type="http://schemas.openxmlformats.org/officeDocument/2006/relationships/slide" Target="slide34.xml"/><Relationship Id="rId9" Type="http://schemas.openxmlformats.org/officeDocument/2006/relationships/slide" Target="slide32.xml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Tahoma"/>
              </a:rPr>
              <a:t>我全身不舒服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sson 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211640" y="692280"/>
            <a:ext cx="115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ahoma"/>
              </a:rPr>
              <a:t>问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11640" y="429264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Tahoma"/>
              </a:rPr>
              <a:t>回答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356000" y="198900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她怎么了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427640" y="3068640"/>
            <a:ext cx="62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她哪儿不舒服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84720" y="544500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她嗓子疼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24000" y="1916280"/>
            <a:ext cx="280800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211640" y="692280"/>
            <a:ext cx="115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ahoma"/>
              </a:rPr>
              <a:t>问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11640" y="429264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Tahoma"/>
              </a:rPr>
              <a:t>回答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356000" y="198900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他怎么了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427640" y="3068640"/>
            <a:ext cx="62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他哪儿不舒服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84720" y="544500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他肚子疼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28796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211640" y="692280"/>
            <a:ext cx="115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ahoma"/>
              </a:rPr>
              <a:t>问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11640" y="429264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Tahoma"/>
              </a:rPr>
              <a:t>回答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356000" y="198900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他怎么了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427640" y="3068640"/>
            <a:ext cx="62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他哪儿不舒服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84720" y="544500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他脚疼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755640" y="1052640"/>
            <a:ext cx="28796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39640" y="90792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发炎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9640" y="270828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发烧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9640" y="4797360"/>
            <a:ext cx="21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感冒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71640" y="278136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ve a fe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00360" y="479736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tch a col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627280" y="98100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ve inflamm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093080" y="1989000"/>
            <a:ext cx="1552320" cy="20494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6804000" y="4292640"/>
            <a:ext cx="203832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有（一）点儿 </a:t>
            </a: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+ adj/verb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755640" y="2133720"/>
            <a:ext cx="48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我头疼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26920" y="3645000"/>
            <a:ext cx="58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我头</a:t>
            </a: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有（一）点儿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疼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air exercis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0" y="198900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572000" y="1844640"/>
            <a:ext cx="1873080" cy="18734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0" y="4653000"/>
            <a:ext cx="1944720" cy="16714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1685880" cy="17398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124000" y="1844640"/>
            <a:ext cx="201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我肚子</a:t>
            </a: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有点儿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疼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1700280"/>
            <a:ext cx="201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我嗓子</a:t>
            </a: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有点儿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疼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24000" y="4437000"/>
            <a:ext cx="20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我牙 </a:t>
            </a: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有点儿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疼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04000" y="436572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我手 </a:t>
            </a: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有点儿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疼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air exercis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2124000" y="1844640"/>
            <a:ext cx="201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我     </a:t>
            </a: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有点儿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发烧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04000" y="1700280"/>
            <a:ext cx="201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我     </a:t>
            </a: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有点儿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感冒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04000" y="4365720"/>
            <a:ext cx="201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我     </a:t>
            </a: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有点儿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热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324000" y="1844640"/>
            <a:ext cx="1552320" cy="20494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4356000" y="1773360"/>
            <a:ext cx="2038320" cy="22003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195640" y="4365720"/>
            <a:ext cx="201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我     </a:t>
            </a: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有点儿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不高兴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324000" y="4724280"/>
            <a:ext cx="1447560" cy="14479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4643280" y="4292640"/>
            <a:ext cx="158616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ually for negative feelings and thing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有（一）点儿 </a:t>
            </a: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+ adj/verb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5292720" y="1413000"/>
            <a:ext cx="1868400" cy="25844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1403280" y="1916280"/>
            <a:ext cx="2519280" cy="1881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508720" y="472428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医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908000" y="4724280"/>
            <a:ext cx="15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医院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5280" y="40464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生病了，你应该。。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8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1403280" y="1916280"/>
            <a:ext cx="2519280" cy="18810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5292720" y="1413000"/>
            <a:ext cx="1868400" cy="25844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116000" y="4581360"/>
            <a:ext cx="65516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去医院看医生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去医院看病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700360" y="333360"/>
            <a:ext cx="367200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Objecti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2276640"/>
            <a:ext cx="3166920" cy="72072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ccff"/>
                </a:solidFill>
                <a:uFillTx/>
                <a:latin typeface="宋体"/>
                <a:hlinkClick r:id="rId2" action="ppaction://hlinksldjump"/>
              </a:rPr>
              <a:t>Body </a:t>
            </a:r>
            <a:r>
              <a:rPr b="0" lang="zh-CN" sz="2800" spc="-1" strike="noStrike" u="sng">
                <a:solidFill>
                  <a:srgbClr val="00ccff"/>
                </a:solidFill>
                <a:uFillTx/>
                <a:latin typeface="宋体"/>
                <a:hlinkClick r:id="rId3" action="ppaction://hlinksldjump"/>
              </a:rPr>
              <a:t>身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148360" y="2276640"/>
            <a:ext cx="3166920" cy="71892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ccff"/>
                </a:solidFill>
                <a:uFillTx/>
                <a:latin typeface="宋体"/>
                <a:hlinkClick r:id="rId4" action="ppaction://hlinksldjump"/>
              </a:rPr>
              <a:t>Sickness </a:t>
            </a:r>
            <a:r>
              <a:rPr b="0" lang="zh-CN" sz="2800" spc="-1" strike="noStrike" u="sng">
                <a:solidFill>
                  <a:srgbClr val="00ccff"/>
                </a:solidFill>
                <a:uFillTx/>
                <a:latin typeface="宋体"/>
                <a:hlinkClick r:id="rId5" action="ppaction://hlinksldjump"/>
              </a:rPr>
              <a:t>生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5640" y="4437000"/>
            <a:ext cx="3166920" cy="72072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ccff"/>
                </a:solidFill>
                <a:uFillTx/>
                <a:latin typeface="宋体"/>
                <a:hlinkClick r:id="rId6" action="ppaction://hlinksldjump"/>
              </a:rPr>
              <a:t>See doctor </a:t>
            </a:r>
            <a:r>
              <a:rPr b="0" lang="zh-CN" sz="2800" spc="-1" strike="noStrike" u="sng">
                <a:solidFill>
                  <a:srgbClr val="00ccff"/>
                </a:solidFill>
                <a:uFillTx/>
                <a:latin typeface="宋体"/>
                <a:hlinkClick r:id="rId7" action="ppaction://hlinksldjump"/>
              </a:rPr>
              <a:t>看病</a:t>
            </a:r>
            <a:r>
              <a:rPr b="0" lang="zh-CN" sz="2800" spc="-1" strike="noStrike" u="sng">
                <a:solidFill>
                  <a:srgbClr val="00ccff"/>
                </a:solidFill>
                <a:uFillTx/>
                <a:latin typeface="Tahoma"/>
                <a:hlinkClick r:id="rId8" action="ppaction://hlinksldjump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148360" y="4365720"/>
            <a:ext cx="3166920" cy="72072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9" action="ppaction://hlinksldjump"/>
              </a:rPr>
              <a:t>Gramm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900000" y="1341360"/>
            <a:ext cx="1868760" cy="25844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708360" y="134136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你哪儿不舒服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51280" y="306864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你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_____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怎么样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Tahoma"/>
              </a:rPr>
              <a:t>怎么了？</a:t>
            </a:r>
            <a:r>
              <a:rPr b="0" lang="zh-CN" sz="4400" spc="-1" strike="noStrike">
                <a:solidFill>
                  <a:srgbClr val="e5ffff"/>
                </a:solidFill>
                <a:latin typeface="Tahoma"/>
              </a:rPr>
              <a:t>Vs </a:t>
            </a:r>
            <a:r>
              <a:rPr b="0" lang="zh-CN" sz="4400" spc="-1" strike="noStrike">
                <a:solidFill>
                  <a:srgbClr val="e5ffff"/>
                </a:solidFill>
                <a:latin typeface="Tahoma"/>
              </a:rPr>
              <a:t>怎么样？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1916280"/>
            <a:ext cx="9144000" cy="2104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b5481"/>
                </a:solidFill>
                <a:latin typeface="Tahoma"/>
              </a:rPr>
              <a:t>What’s wrong?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b5481"/>
                </a:solidFill>
                <a:latin typeface="Tahoma"/>
              </a:rPr>
              <a:t>What happened to you?    </a:t>
            </a:r>
            <a:r>
              <a:rPr b="0" lang="zh-CN" sz="4400" spc="-1" strike="noStrike">
                <a:solidFill>
                  <a:srgbClr val="2b5481"/>
                </a:solidFill>
                <a:latin typeface="Tahoma"/>
              </a:rPr>
              <a:t>怎么了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b5481"/>
                </a:solidFill>
                <a:latin typeface="Tahoma"/>
              </a:rPr>
              <a:t>（</a:t>
            </a:r>
            <a:r>
              <a:rPr b="0" lang="zh-CN" sz="4400" spc="-1" strike="noStrike">
                <a:solidFill>
                  <a:srgbClr val="2b5481"/>
                </a:solidFill>
                <a:latin typeface="Tahoma"/>
              </a:rPr>
              <a:t>have no prior knowledge</a:t>
            </a:r>
            <a:r>
              <a:rPr b="0" lang="zh-CN" sz="4400" spc="-1" strike="noStrike">
                <a:solidFill>
                  <a:srgbClr val="2b5481"/>
                </a:solidFill>
                <a:latin typeface="Tahoma"/>
              </a:rPr>
              <a:t>）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4292640"/>
            <a:ext cx="9144000" cy="14346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b5481"/>
                </a:solidFill>
                <a:latin typeface="Tahoma"/>
              </a:rPr>
              <a:t>How is …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b5481"/>
                </a:solidFill>
                <a:latin typeface="Tahoma"/>
              </a:rPr>
              <a:t>How are you?                  </a:t>
            </a:r>
            <a:r>
              <a:rPr b="0" lang="zh-CN" sz="4400" spc="-1" strike="noStrike">
                <a:solidFill>
                  <a:srgbClr val="2b5481"/>
                </a:solidFill>
                <a:latin typeface="Tahoma"/>
              </a:rPr>
              <a:t>怎么样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611280" y="692280"/>
            <a:ext cx="2038320" cy="22003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132000" y="148428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因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4360" y="3500280"/>
            <a:ext cx="7488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我感冒了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因为昨天天气很冷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我穿很少的衣服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5796000" y="620640"/>
            <a:ext cx="29145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132000" y="148428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因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55640" y="3860640"/>
            <a:ext cx="7488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我肚子疼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因为昨天晚上我吃了太多饭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68360" y="62064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5292720" y="549360"/>
            <a:ext cx="309564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132000" y="148428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因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3860640"/>
            <a:ext cx="74883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她嗓子疼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因为她是老师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每天说很多话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0" y="476280"/>
            <a:ext cx="2808360" cy="28083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4859280" y="1916280"/>
            <a:ext cx="3998880" cy="26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132000" y="148428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因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55640" y="3860640"/>
            <a:ext cx="7488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他很头疼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因为他有很多作业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0" y="765000"/>
            <a:ext cx="2808360" cy="28083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5003640" y="861840"/>
            <a:ext cx="3816360" cy="25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900000" y="1341360"/>
            <a:ext cx="1868760" cy="25844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3276720" y="1413000"/>
            <a:ext cx="626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635280" y="1268280"/>
            <a:ext cx="4537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医生会说什么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1628640"/>
            <a:ext cx="2867040" cy="30956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3276720" y="2637000"/>
            <a:ext cx="136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cc00"/>
                </a:solidFill>
                <a:latin typeface="Tahoma"/>
              </a:rPr>
              <a:t>要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4751280" y="1484280"/>
            <a:ext cx="4392360" cy="5031000"/>
            <a:chOff x="4751280" y="1484280"/>
            <a:chExt cx="4392360" cy="5031000"/>
          </a:xfrm>
        </p:grpSpPr>
        <p:sp>
          <p:nvSpPr>
            <p:cNvPr id="226" name=""/>
            <p:cNvSpPr/>
            <p:nvPr/>
          </p:nvSpPr>
          <p:spPr>
            <a:xfrm>
              <a:off x="5470200" y="1484280"/>
              <a:ext cx="3673440" cy="50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ahoma"/>
                </a:rPr>
                <a:t>（多）休息。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ahoma"/>
                </a:rPr>
                <a:t>（多）喝水。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ahoma"/>
                </a:rPr>
                <a:t>（多）穿衣服。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ahoma"/>
                </a:rPr>
                <a:t>去医院看病。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ahoma"/>
                </a:rPr>
                <a:t>吃药。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751280" y="1629000"/>
              <a:ext cx="431640" cy="3166920"/>
            </a:xfrm>
            <a:custGeom>
              <a:avLst/>
              <a:gdLst>
                <a:gd name="textAreaLeft" fmla="*/ 275760 w 431640"/>
                <a:gd name="textAreaRight" fmla="*/ 432000 w 431640"/>
                <a:gd name="textAreaTop" fmla="*/ 82440 h 3166920"/>
                <a:gd name="textAreaBottom" fmla="*/ 3084480 h 316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0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0" y="765000"/>
            <a:ext cx="2867040" cy="30956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3132000" y="1413000"/>
            <a:ext cx="216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cc00"/>
                </a:solidFill>
                <a:latin typeface="Tahoma"/>
              </a:rPr>
              <a:t>不能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5148360" y="404640"/>
            <a:ext cx="4392360" cy="5031000"/>
            <a:chOff x="5148360" y="404640"/>
            <a:chExt cx="4392360" cy="5031000"/>
          </a:xfrm>
        </p:grpSpPr>
        <p:sp>
          <p:nvSpPr>
            <p:cNvPr id="231" name=""/>
            <p:cNvSpPr/>
            <p:nvPr/>
          </p:nvSpPr>
          <p:spPr>
            <a:xfrm>
              <a:off x="5867280" y="404640"/>
              <a:ext cx="3673440" cy="50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ahoma"/>
                </a:rPr>
                <a:t>上课。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ahoma"/>
                </a:rPr>
                <a:t>锻炼身体。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ahoma"/>
                </a:rPr>
                <a:t>打球。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ahoma"/>
                </a:rPr>
                <a:t>跳舞。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ahoma"/>
                </a:rPr>
                <a:t>做作业。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148360" y="549360"/>
              <a:ext cx="431640" cy="3166920"/>
            </a:xfrm>
            <a:custGeom>
              <a:avLst/>
              <a:gdLst>
                <a:gd name="textAreaLeft" fmla="*/ 275760 w 431640"/>
                <a:gd name="textAreaRight" fmla="*/ 432000 w 431640"/>
                <a:gd name="textAreaTop" fmla="*/ 82440 h 3166920"/>
                <a:gd name="textAreaBottom" fmla="*/ 3084480 h 316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468360" y="5084640"/>
            <a:ext cx="201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cc00"/>
                </a:solidFill>
                <a:latin typeface="Tahoma"/>
              </a:rPr>
              <a:t>不用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700360" y="522936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住院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7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要，不能，不用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要：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have to, need 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不能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: can not to. “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不可以”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is OK to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不用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: don’t need 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403280" y="404280"/>
            <a:ext cx="6121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Re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5589720"/>
            <a:ext cx="266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6:00 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564000" y="2060640"/>
            <a:ext cx="2303280" cy="20476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276720" y="5661000"/>
            <a:ext cx="266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9:30 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0" y="2060640"/>
            <a:ext cx="3110040" cy="2070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156360" y="5661000"/>
            <a:ext cx="266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3:15 p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6443640" y="2060640"/>
            <a:ext cx="2376360" cy="20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250920" y="83664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6659640" y="692280"/>
            <a:ext cx="1873080" cy="18730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250920" y="4724280"/>
            <a:ext cx="1944720" cy="16718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7020000" y="4653000"/>
            <a:ext cx="1685880" cy="17398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3564000" y="1052640"/>
            <a:ext cx="172872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不能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不用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755640" y="404640"/>
            <a:ext cx="2087640" cy="586188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看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不高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上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唱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去学校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天气冷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64000" y="333360"/>
            <a:ext cx="2735280" cy="5861880"/>
          </a:xfrm>
          <a:prstGeom prst="rect">
            <a:avLst/>
          </a:prstGeom>
          <a:solidFill>
            <a:srgbClr val="e5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ahoma"/>
              </a:rPr>
              <a:t>锻炼身体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ahoma"/>
              </a:rPr>
              <a:t>挂号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ahoma"/>
              </a:rPr>
              <a:t>打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ahoma"/>
              </a:rPr>
              <a:t>睡觉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ahoma"/>
              </a:rPr>
              <a:t>听音乐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ahoma"/>
              </a:rPr>
              <a:t>多穿衣服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ffff"/>
                </a:solidFill>
                <a:latin typeface="Tahoma"/>
              </a:rPr>
              <a:t>要，想，愿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我要吃烤鸭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我想吃烤鸭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我愿意吃烤鸭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348000" y="2565360"/>
            <a:ext cx="5472000" cy="764280"/>
            <a:chOff x="3348000" y="2565360"/>
            <a:chExt cx="5472000" cy="764280"/>
          </a:xfrm>
        </p:grpSpPr>
        <p:sp>
          <p:nvSpPr>
            <p:cNvPr id="247" name=""/>
            <p:cNvSpPr/>
            <p:nvPr/>
          </p:nvSpPr>
          <p:spPr>
            <a:xfrm>
              <a:off x="4788000" y="2565360"/>
              <a:ext cx="4032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ahoma"/>
                </a:rPr>
                <a:t>我</a:t>
              </a:r>
              <a:r>
                <a:rPr b="1" lang="zh-CN" sz="4400" spc="-1" strike="noStrike">
                  <a:solidFill>
                    <a:srgbClr val="ffcc00"/>
                  </a:solidFill>
                  <a:latin typeface="Tahoma"/>
                </a:rPr>
                <a:t>不想</a:t>
              </a:r>
              <a:r>
                <a:rPr b="1" lang="zh-CN" sz="4400" spc="-1" strike="noStrike">
                  <a:solidFill>
                    <a:srgbClr val="ffffff"/>
                  </a:solidFill>
                  <a:latin typeface="Tahoma"/>
                </a:rPr>
                <a:t>吃烤鸭。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48000" y="2708280"/>
              <a:ext cx="1295280" cy="576360"/>
            </a:xfrm>
            <a:prstGeom prst="rightArrow">
              <a:avLst>
                <a:gd name="adj1" fmla="val 50000"/>
                <a:gd name="adj2" fmla="val 56184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2843280" y="5661000"/>
            <a:ext cx="6300360" cy="764280"/>
            <a:chOff x="2843280" y="5661000"/>
            <a:chExt cx="6300360" cy="764280"/>
          </a:xfrm>
        </p:grpSpPr>
        <p:sp>
          <p:nvSpPr>
            <p:cNvPr id="250" name=""/>
            <p:cNvSpPr/>
            <p:nvPr/>
          </p:nvSpPr>
          <p:spPr>
            <a:xfrm>
              <a:off x="4501080" y="5661000"/>
              <a:ext cx="4642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ahoma"/>
                </a:rPr>
                <a:t>我</a:t>
              </a:r>
              <a:r>
                <a:rPr b="1" lang="zh-CN" sz="4400" spc="-1" strike="noStrike">
                  <a:solidFill>
                    <a:srgbClr val="ffcc00"/>
                  </a:solidFill>
                  <a:latin typeface="Tahoma"/>
                </a:rPr>
                <a:t>不愿意</a:t>
              </a:r>
              <a:r>
                <a:rPr b="1" lang="zh-CN" sz="4400" spc="-1" strike="noStrike">
                  <a:solidFill>
                    <a:srgbClr val="ffffff"/>
                  </a:solidFill>
                  <a:latin typeface="Tahoma"/>
                </a:rPr>
                <a:t>吃烤鸭。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843280" y="5803920"/>
              <a:ext cx="1491120" cy="576360"/>
            </a:xfrm>
            <a:prstGeom prst="rightArrow">
              <a:avLst>
                <a:gd name="adj1" fmla="val 50000"/>
                <a:gd name="adj2" fmla="val 64678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ffff"/>
                </a:solidFill>
                <a:latin typeface="Tahoma"/>
              </a:rPr>
              <a:t>要，想，愿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要” 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is intention and strong deman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想” 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is intention and hop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愿意” 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is willingnes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Read Page P177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express one’s desire or ne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6"/>
          <p:cNvSpPr/>
          <p:nvPr/>
        </p:nvSpPr>
        <p:spPr>
          <a:xfrm>
            <a:off x="571680" y="2793960"/>
            <a:ext cx="8143560" cy="1922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5ffff"/>
                </a:solidFill>
                <a:latin typeface="Times New Roman"/>
                <a:ea typeface="华文楷体"/>
              </a:rPr>
              <a:t>   </a:t>
            </a:r>
            <a:r>
              <a:rPr b="0" lang="zh-CN" sz="4000" spc="-1" strike="noStrike">
                <a:solidFill>
                  <a:srgbClr val="e5ffff"/>
                </a:solidFill>
                <a:latin typeface="Times New Roman"/>
                <a:ea typeface="华文楷体"/>
              </a:rPr>
              <a:t>...</a:t>
            </a:r>
            <a:r>
              <a:rPr b="0" lang="zh-CN" sz="4000" spc="-1" strike="noStrike">
                <a:solidFill>
                  <a:srgbClr val="e5ffff"/>
                </a:solidFill>
                <a:latin typeface="Times New Roman"/>
                <a:ea typeface="华文楷体"/>
              </a:rPr>
              <a:t>还是</a:t>
            </a:r>
            <a:r>
              <a:rPr b="0" lang="zh-CN" sz="4000" spc="-1" strike="noStrike">
                <a:solidFill>
                  <a:srgbClr val="e5ffff"/>
                </a:solidFill>
                <a:latin typeface="Times New Roman"/>
                <a:ea typeface="华文楷体"/>
              </a:rPr>
              <a:t>..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5ffff"/>
                </a:solidFill>
                <a:latin typeface="Times New Roman"/>
                <a:ea typeface="华文楷体"/>
              </a:rPr>
              <a:t>Make an alternative question for each of the follow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ffff"/>
                </a:solidFill>
                <a:latin typeface="Tahoma"/>
                <a:ea typeface="宋体"/>
              </a:rPr>
              <a:t>Alternative question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6"/>
          <p:cNvSpPr/>
          <p:nvPr/>
        </p:nvSpPr>
        <p:spPr>
          <a:xfrm>
            <a:off x="1571760" y="5217120"/>
            <a:ext cx="585792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5ffff"/>
                </a:solidFill>
                <a:latin typeface="Times New Roman"/>
                <a:ea typeface="华文楷体"/>
              </a:rPr>
              <a:t>他是中国人还是美国人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ffff"/>
                </a:solidFill>
                <a:latin typeface="Tahoma"/>
                <a:ea typeface="宋体"/>
              </a:rPr>
              <a:t>Alternative question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58" name="Picture 4" descr="D:\Chinese PPT\International Chinese picture\Lesson 3\116533ef027.jpg"/>
          <p:cNvPicPr/>
          <p:nvPr/>
        </p:nvPicPr>
        <p:blipFill>
          <a:blip r:embed="rId2"/>
          <a:stretch/>
        </p:blipFill>
        <p:spPr>
          <a:xfrm>
            <a:off x="3000240" y="1357200"/>
            <a:ext cx="2957760" cy="3286080"/>
          </a:xfrm>
          <a:prstGeom prst="rect">
            <a:avLst/>
          </a:prstGeom>
          <a:ln w="0">
            <a:noFill/>
          </a:ln>
        </p:spPr>
      </p:pic>
      <p:sp>
        <p:nvSpPr>
          <p:cNvPr id="259" name="矩形 4"/>
          <p:cNvSpPr/>
          <p:nvPr/>
        </p:nvSpPr>
        <p:spPr>
          <a:xfrm>
            <a:off x="6735600" y="19288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中国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矩形 5"/>
          <p:cNvSpPr/>
          <p:nvPr/>
        </p:nvSpPr>
        <p:spPr>
          <a:xfrm>
            <a:off x="6750000" y="292428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美国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1357200" y="5288400"/>
            <a:ext cx="664380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5ffff"/>
                </a:solidFill>
                <a:latin typeface="Times New Roman"/>
                <a:ea typeface="华文楷体"/>
              </a:rPr>
              <a:t>你喜欢吃中国饭还是日本饭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Picture 4" descr="D:\Chinese PPT\International Chinese picture\Lesson 3\1_200704281641511_thumb.jpg"/>
          <p:cNvPicPr/>
          <p:nvPr/>
        </p:nvPicPr>
        <p:blipFill>
          <a:blip r:embed="rId2"/>
          <a:stretch/>
        </p:blipFill>
        <p:spPr>
          <a:xfrm>
            <a:off x="2571840" y="1857240"/>
            <a:ext cx="3686040" cy="3071880"/>
          </a:xfrm>
          <a:prstGeom prst="rect">
            <a:avLst/>
          </a:prstGeom>
          <a:ln w="0">
            <a:noFill/>
          </a:ln>
        </p:spPr>
      </p:pic>
      <p:sp>
        <p:nvSpPr>
          <p:cNvPr id="263" name="矩形 4"/>
          <p:cNvSpPr/>
          <p:nvPr/>
        </p:nvSpPr>
        <p:spPr>
          <a:xfrm>
            <a:off x="6878520" y="22860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中国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矩形 5"/>
          <p:cNvSpPr/>
          <p:nvPr/>
        </p:nvSpPr>
        <p:spPr>
          <a:xfrm>
            <a:off x="6878520" y="35002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美国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Box 6"/>
          <p:cNvSpPr/>
          <p:nvPr/>
        </p:nvSpPr>
        <p:spPr>
          <a:xfrm>
            <a:off x="1979640" y="1071720"/>
            <a:ext cx="48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你喜欢吃什么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6"/>
          <p:cNvSpPr/>
          <p:nvPr/>
        </p:nvSpPr>
        <p:spPr>
          <a:xfrm>
            <a:off x="357120" y="5002920"/>
            <a:ext cx="630252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5ffff"/>
                </a:solidFill>
                <a:latin typeface="Times New Roman"/>
                <a:ea typeface="华文楷体"/>
              </a:rPr>
              <a:t>李先生是老师还是医生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4" descr="D:\Chinese PPT\International Chinese picture\Lesson 1\2007613141933227_2.jpg"/>
          <p:cNvPicPr/>
          <p:nvPr/>
        </p:nvPicPr>
        <p:blipFill>
          <a:blip r:embed="rId2"/>
          <a:stretch/>
        </p:blipFill>
        <p:spPr>
          <a:xfrm>
            <a:off x="6286680" y="1428840"/>
            <a:ext cx="2447640" cy="4190760"/>
          </a:xfrm>
          <a:prstGeom prst="rect">
            <a:avLst/>
          </a:prstGeom>
          <a:ln w="0">
            <a:noFill/>
          </a:ln>
        </p:spPr>
      </p:pic>
      <p:sp>
        <p:nvSpPr>
          <p:cNvPr id="268" name="矩形 4"/>
          <p:cNvSpPr/>
          <p:nvPr/>
        </p:nvSpPr>
        <p:spPr>
          <a:xfrm>
            <a:off x="4848120" y="2286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老师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矩形 5"/>
          <p:cNvSpPr/>
          <p:nvPr/>
        </p:nvSpPr>
        <p:spPr>
          <a:xfrm>
            <a:off x="4848120" y="32148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医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Box 6"/>
          <p:cNvSpPr/>
          <p:nvPr/>
        </p:nvSpPr>
        <p:spPr>
          <a:xfrm>
            <a:off x="971640" y="40464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华文楷体"/>
              </a:rPr>
              <a:t>李先生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做什么工作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6"/>
          <p:cNvSpPr/>
          <p:nvPr/>
        </p:nvSpPr>
        <p:spPr>
          <a:xfrm>
            <a:off x="714240" y="5074560"/>
            <a:ext cx="814392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5ffff"/>
                </a:solidFill>
                <a:latin typeface="Times New Roman"/>
                <a:ea typeface="华文楷体"/>
              </a:rPr>
              <a:t>我们六点</a:t>
            </a:r>
            <a:r>
              <a:rPr b="0" lang="zh-CN" sz="4000" spc="-1" strike="noStrike">
                <a:solidFill>
                  <a:srgbClr val="e5ffff"/>
                </a:solidFill>
                <a:latin typeface="Times New Roman"/>
                <a:ea typeface="华文楷体"/>
              </a:rPr>
              <a:t>(</a:t>
            </a:r>
            <a:r>
              <a:rPr b="0" lang="zh-CN" sz="4000" spc="-1" strike="noStrike">
                <a:solidFill>
                  <a:srgbClr val="e5ffff"/>
                </a:solidFill>
                <a:latin typeface="Times New Roman"/>
                <a:ea typeface="华文楷体"/>
              </a:rPr>
              <a:t>吃饭</a:t>
            </a:r>
            <a:r>
              <a:rPr b="0" lang="zh-CN" sz="4000" spc="-1" strike="noStrike">
                <a:solidFill>
                  <a:srgbClr val="e5ffff"/>
                </a:solidFill>
                <a:latin typeface="Times New Roman"/>
                <a:ea typeface="华文楷体"/>
              </a:rPr>
              <a:t>)</a:t>
            </a:r>
            <a:r>
              <a:rPr b="0" lang="zh-CN" sz="4000" spc="-1" strike="noStrike">
                <a:solidFill>
                  <a:srgbClr val="e5ffff"/>
                </a:solidFill>
                <a:latin typeface="Times New Roman"/>
                <a:ea typeface="华文楷体"/>
              </a:rPr>
              <a:t>还是七点吃饭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5" descr="C:\Documents and Settings\Administrator\桌面\1-1.bmp"/>
          <p:cNvPicPr/>
          <p:nvPr/>
        </p:nvPicPr>
        <p:blipFill>
          <a:blip r:embed="rId2"/>
          <a:stretch/>
        </p:blipFill>
        <p:spPr>
          <a:xfrm>
            <a:off x="5143680" y="1500120"/>
            <a:ext cx="3314520" cy="3326040"/>
          </a:xfrm>
          <a:prstGeom prst="rect">
            <a:avLst/>
          </a:prstGeom>
          <a:ln w="0">
            <a:noFill/>
          </a:ln>
        </p:spPr>
      </p:pic>
      <p:sp>
        <p:nvSpPr>
          <p:cNvPr id="273" name="矩形 4"/>
          <p:cNvSpPr/>
          <p:nvPr/>
        </p:nvSpPr>
        <p:spPr>
          <a:xfrm>
            <a:off x="3705120" y="23572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六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矩形 5"/>
          <p:cNvSpPr/>
          <p:nvPr/>
        </p:nvSpPr>
        <p:spPr>
          <a:xfrm>
            <a:off x="3705120" y="32860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七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Box 6"/>
          <p:cNvSpPr/>
          <p:nvPr/>
        </p:nvSpPr>
        <p:spPr>
          <a:xfrm>
            <a:off x="1979640" y="476280"/>
            <a:ext cx="401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我们几点吃饭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6"/>
          <p:cNvSpPr/>
          <p:nvPr/>
        </p:nvSpPr>
        <p:spPr>
          <a:xfrm>
            <a:off x="714240" y="4860360"/>
            <a:ext cx="814392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5ffff"/>
                </a:solidFill>
                <a:latin typeface="Times New Roman"/>
                <a:ea typeface="华文楷体"/>
              </a:rPr>
              <a:t>今天是星期四还是星期五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Picture 4" descr="D:\Chinese PPT\International Chinese picture\Lesson 3\1509121N444.jpg"/>
          <p:cNvPicPr/>
          <p:nvPr/>
        </p:nvPicPr>
        <p:blipFill>
          <a:blip r:embed="rId2"/>
          <a:stretch/>
        </p:blipFill>
        <p:spPr>
          <a:xfrm>
            <a:off x="5429160" y="1785960"/>
            <a:ext cx="3353040" cy="2517840"/>
          </a:xfrm>
          <a:prstGeom prst="rect">
            <a:avLst/>
          </a:prstGeom>
          <a:ln w="0">
            <a:noFill/>
          </a:ln>
        </p:spPr>
      </p:pic>
      <p:sp>
        <p:nvSpPr>
          <p:cNvPr id="278" name="矩形 4"/>
          <p:cNvSpPr/>
          <p:nvPr/>
        </p:nvSpPr>
        <p:spPr>
          <a:xfrm>
            <a:off x="3806640" y="23572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星期四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矩形 5"/>
          <p:cNvSpPr/>
          <p:nvPr/>
        </p:nvSpPr>
        <p:spPr>
          <a:xfrm>
            <a:off x="3806640" y="32860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星期五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684360" y="2852640"/>
            <a:ext cx="158400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楷体"/>
                <a:ea typeface="华文楷体"/>
              </a:rPr>
              <a:t>今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268360" y="765000"/>
            <a:ext cx="4500720" cy="5256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835280" y="1484280"/>
            <a:ext cx="1584360" cy="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71640" y="105264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08720" y="836640"/>
            <a:ext cx="1150920" cy="5040360"/>
          </a:xfrm>
          <a:custGeom>
            <a:avLst/>
            <a:gdLst>
              <a:gd name="textAreaLeft" fmla="*/ 0 w 1150920"/>
              <a:gd name="textAreaRight" fmla="*/ 415440 w 1150920"/>
              <a:gd name="textAreaTop" fmla="*/ 131400 h 5040360"/>
              <a:gd name="textAreaBottom" fmla="*/ 4908960 h 50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2421000"/>
            <a:ext cx="936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全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身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3213000"/>
            <a:ext cx="1368360" cy="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9640" y="278136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92360" y="4941720"/>
            <a:ext cx="1366920" cy="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00000" y="4508640"/>
            <a:ext cx="10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428760" y="5288400"/>
            <a:ext cx="814392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5ffff"/>
                </a:solidFill>
                <a:latin typeface="Times New Roman"/>
                <a:ea typeface="华文楷体"/>
              </a:rPr>
              <a:t>你请我吃饭还是我请你吃饭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Picture 4" descr="D:\Chinese PPT\International Chinese picture\Lesson 1\200811320448253_2.jpg"/>
          <p:cNvPicPr/>
          <p:nvPr/>
        </p:nvPicPr>
        <p:blipFill>
          <a:blip r:embed="rId2"/>
          <a:stretch/>
        </p:blipFill>
        <p:spPr>
          <a:xfrm>
            <a:off x="3500280" y="1285920"/>
            <a:ext cx="2752920" cy="38764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" descr="D:\Chinese PPT\International Chinese picture\Lesson 3\200856214729976_2.jpg"/>
          <p:cNvPicPr/>
          <p:nvPr/>
        </p:nvPicPr>
        <p:blipFill>
          <a:blip r:embed="rId3"/>
          <a:stretch/>
        </p:blipFill>
        <p:spPr>
          <a:xfrm>
            <a:off x="6286680" y="2000160"/>
            <a:ext cx="2631960" cy="2144880"/>
          </a:xfrm>
          <a:prstGeom prst="rect">
            <a:avLst/>
          </a:prstGeom>
          <a:ln w="0">
            <a:noFill/>
          </a:ln>
        </p:spPr>
      </p:pic>
      <p:sp>
        <p:nvSpPr>
          <p:cNvPr id="284" name="矩形 5"/>
          <p:cNvSpPr/>
          <p:nvPr/>
        </p:nvSpPr>
        <p:spPr>
          <a:xfrm>
            <a:off x="1295640" y="235728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你请我吃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矩形 6"/>
          <p:cNvSpPr/>
          <p:nvPr/>
        </p:nvSpPr>
        <p:spPr>
          <a:xfrm>
            <a:off x="1295640" y="328608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我请你吃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3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4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7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755640" y="105264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5003640" y="981000"/>
            <a:ext cx="2943360" cy="303696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900000" y="4797360"/>
            <a:ext cx="68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你手疼还是脚疼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468360" y="692280"/>
            <a:ext cx="3168720" cy="237312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3"/>
          <a:stretch/>
        </p:blipFill>
        <p:spPr>
          <a:xfrm>
            <a:off x="4932360" y="692280"/>
            <a:ext cx="3402000" cy="224316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468360" y="3573360"/>
            <a:ext cx="31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中药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076720" y="3500280"/>
            <a:ext cx="31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西药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95280" y="515772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你愿意吃中药还是西药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042920" y="476280"/>
            <a:ext cx="605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你想做什么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1042920" y="1916280"/>
            <a:ext cx="2881440" cy="223668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5148360" y="1413000"/>
            <a:ext cx="3240000" cy="274140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1258920" y="4508640"/>
            <a:ext cx="244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锻炼身体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435640" y="4365720"/>
            <a:ext cx="244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休息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00000" y="5589720"/>
            <a:ext cx="748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你想锻炼身体还是休息一下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Gramma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68360" y="1700280"/>
            <a:ext cx="5398920" cy="4822200"/>
            <a:chOff x="468360" y="1700280"/>
            <a:chExt cx="5398920" cy="4822200"/>
          </a:xfrm>
        </p:grpSpPr>
        <p:sp>
          <p:nvSpPr>
            <p:cNvPr id="302" name=""/>
            <p:cNvSpPr/>
            <p:nvPr/>
          </p:nvSpPr>
          <p:spPr>
            <a:xfrm>
              <a:off x="539640" y="1700280"/>
              <a:ext cx="316872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 u="sng">
                  <a:solidFill>
                    <a:srgbClr val="00ccff"/>
                  </a:solidFill>
                  <a:uFillTx/>
                  <a:latin typeface="Tahoma"/>
                  <a:hlinkClick r:id="rId2" action="ppaction://hlinksldjump"/>
                </a:rPr>
                <a:t>有（一）点儿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8360" y="2637000"/>
              <a:ext cx="518328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 u="sng">
                  <a:solidFill>
                    <a:srgbClr val="00ccff"/>
                  </a:solidFill>
                  <a:uFillTx/>
                  <a:latin typeface="Tahoma"/>
                  <a:hlinkClick r:id="rId3" action="ppaction://hlinksldjump"/>
                </a:rPr>
                <a:t>怎么了？ </a:t>
              </a:r>
              <a:r>
                <a:rPr b="0" lang="zh-CN" sz="3600" spc="-1" strike="noStrike" u="sng">
                  <a:solidFill>
                    <a:srgbClr val="00ccff"/>
                  </a:solidFill>
                  <a:uFillTx/>
                  <a:latin typeface="Tahoma"/>
                  <a:hlinkClick r:id="rId4" action="ppaction://hlinksldjump"/>
                </a:rPr>
                <a:t>Vs </a:t>
              </a:r>
              <a:r>
                <a:rPr b="0" lang="zh-CN" sz="3600" spc="-1" strike="noStrike" u="sng">
                  <a:solidFill>
                    <a:srgbClr val="00ccff"/>
                  </a:solidFill>
                  <a:uFillTx/>
                  <a:latin typeface="Tahoma"/>
                  <a:hlinkClick r:id="rId5" action="ppaction://hlinksldjump"/>
                </a:rPr>
                <a:t>怎么样？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>
              <a:hlinkClick r:id="rId6" action="ppaction://hlinksldjump"/>
            </p:cNvPr>
            <p:cNvSpPr/>
            <p:nvPr/>
          </p:nvSpPr>
          <p:spPr>
            <a:xfrm>
              <a:off x="539640" y="3716280"/>
              <a:ext cx="518328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 u="sng">
                  <a:solidFill>
                    <a:srgbClr val="00ccff"/>
                  </a:solidFill>
                  <a:uFillTx/>
                  <a:latin typeface="Tahoma"/>
                  <a:hlinkClick r:id="rId7" action="ppaction://hlinksldjump"/>
                </a:rPr>
                <a:t>要，不能，不用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11280" y="5805360"/>
              <a:ext cx="518292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 u="sng">
                  <a:solidFill>
                    <a:srgbClr val="00ccff"/>
                  </a:solidFill>
                  <a:uFillTx/>
                  <a:latin typeface="Tahoma"/>
                  <a:hlinkClick r:id="rId8" action="ppaction://hlinksldjump"/>
                </a:rPr>
                <a:t>还是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39640" y="4724280"/>
              <a:ext cx="532764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 u="sng">
                  <a:solidFill>
                    <a:srgbClr val="00ccff"/>
                  </a:solidFill>
                  <a:uFillTx/>
                  <a:latin typeface="Tahoma"/>
                  <a:hlinkClick r:id="rId9" action="ppaction://hlinksldjump"/>
                </a:rPr>
                <a:t>想，要，愿意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7" name="">
            <a:hlinkClick r:id="" action="ppaction://hlinkshowjump?jump=firstslide"/>
          </p:cNvPr>
          <p:cNvSpPr/>
          <p:nvPr/>
        </p:nvSpPr>
        <p:spPr>
          <a:xfrm>
            <a:off x="860436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10800" y="4031"/>
                </a:moveTo>
                <a:lnTo>
                  <a:pt x="13376" y="6643"/>
                </a:ln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lnTo>
                  <a:pt x="17763" y="10994"/>
                </a:lnTo>
                <a:lnTo>
                  <a:pt x="16109" y="10994"/>
                </a:lnTo>
                <a:lnTo>
                  <a:pt x="16109" y="18184"/>
                </a:lnTo>
                <a:lnTo>
                  <a:pt x="5491" y="18184"/>
                </a:lnTo>
                <a:lnTo>
                  <a:pt x="5491" y="10994"/>
                </a:lnTo>
                <a:lnTo>
                  <a:pt x="3837" y="10994"/>
                </a:lnTo>
                <a:close/>
              </a:path>
              <a:path fill="darkenLess" w="21600" h="21989">
                <a:moveTo>
                  <a:pt x="13376" y="6643"/>
                </a:move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close/>
              </a:path>
              <a:path fill="darkenLess" w="21600" h="21989">
                <a:moveTo>
                  <a:pt x="9877" y="14493"/>
                </a:moveTo>
                <a:lnTo>
                  <a:pt x="11723" y="14493"/>
                </a:lnTo>
                <a:lnTo>
                  <a:pt x="11723" y="18184"/>
                </a:lnTo>
                <a:lnTo>
                  <a:pt x="16109" y="18184"/>
                </a:lnTo>
                <a:lnTo>
                  <a:pt x="16109" y="10994"/>
                </a:lnTo>
                <a:lnTo>
                  <a:pt x="5491" y="10994"/>
                </a:lnTo>
                <a:lnTo>
                  <a:pt x="5491" y="18184"/>
                </a:lnTo>
                <a:lnTo>
                  <a:pt x="9877" y="1818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116000" y="620640"/>
            <a:ext cx="2209680" cy="2286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148360" y="765000"/>
            <a:ext cx="2736720" cy="18878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835280" y="3213000"/>
            <a:ext cx="115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牙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940360" y="321300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嗓子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2987640" y="4437000"/>
            <a:ext cx="2219400" cy="20574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580000" y="537372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肚子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>
            <a:hlinkClick r:id="" action="ppaction://hlinkshowjump?jump=firstslide"/>
          </p:cNvPr>
          <p:cNvSpPr/>
          <p:nvPr/>
        </p:nvSpPr>
        <p:spPr>
          <a:xfrm>
            <a:off x="8532720" y="6308640"/>
            <a:ext cx="611280" cy="549360"/>
          </a:xfrm>
          <a:custGeom>
            <a:avLst/>
            <a:gdLst>
              <a:gd name="textAreaLeft" fmla="*/ 35280 w 611280"/>
              <a:gd name="textAreaRight" fmla="*/ 576000 w 611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4033" h="21600">
                <a:moveTo>
                  <a:pt x="0" y="0"/>
                </a:moveTo>
                <a:lnTo>
                  <a:pt x="24033" y="0"/>
                </a:lnTo>
                <a:lnTo>
                  <a:pt x="24033" y="21600"/>
                </a:lnTo>
                <a:lnTo>
                  <a:pt x="0" y="21600"/>
                </a:lnTo>
                <a:close/>
              </a:path>
              <a:path fill="lightenLess" w="24033" h="21600">
                <a:moveTo>
                  <a:pt x="0" y="0"/>
                </a:moveTo>
                <a:lnTo>
                  <a:pt x="24033" y="0"/>
                </a:lnTo>
                <a:lnTo>
                  <a:pt x="22633" y="1400"/>
                </a:lnTo>
                <a:lnTo>
                  <a:pt x="1400" y="1400"/>
                </a:lnTo>
                <a:close/>
              </a:path>
              <a:path fill="darken" w="24033" h="21600">
                <a:moveTo>
                  <a:pt x="24033" y="0"/>
                </a:moveTo>
                <a:lnTo>
                  <a:pt x="24033" y="21600"/>
                </a:lnTo>
                <a:lnTo>
                  <a:pt x="22633" y="20200"/>
                </a:lnTo>
                <a:lnTo>
                  <a:pt x="22633" y="1400"/>
                </a:lnTo>
                <a:close/>
              </a:path>
              <a:path fill="darkenLess" w="24033" h="21600">
                <a:moveTo>
                  <a:pt x="24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3" y="20200"/>
                </a:lnTo>
                <a:close/>
              </a:path>
              <a:path fill="lighten" w="24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3" h="21600">
                <a:moveTo>
                  <a:pt x="12017" y="3837"/>
                </a:moveTo>
                <a:lnTo>
                  <a:pt x="14593" y="6448"/>
                </a:lnTo>
                <a:lnTo>
                  <a:pt x="14593" y="4707"/>
                </a:lnTo>
                <a:lnTo>
                  <a:pt x="16368" y="4707"/>
                </a:lnTo>
                <a:lnTo>
                  <a:pt x="16368" y="8224"/>
                </a:lnTo>
                <a:lnTo>
                  <a:pt x="18979" y="10800"/>
                </a:lnTo>
                <a:lnTo>
                  <a:pt x="17326" y="10800"/>
                </a:lnTo>
                <a:lnTo>
                  <a:pt x="17326" y="17989"/>
                </a:lnTo>
                <a:lnTo>
                  <a:pt x="6707" y="17989"/>
                </a:lnTo>
                <a:lnTo>
                  <a:pt x="6707" y="10800"/>
                </a:lnTo>
                <a:lnTo>
                  <a:pt x="5054" y="10800"/>
                </a:lnTo>
                <a:close/>
              </a:path>
              <a:path fill="darkenLess" w="24033" h="21600">
                <a:moveTo>
                  <a:pt x="14593" y="6448"/>
                </a:moveTo>
                <a:lnTo>
                  <a:pt x="14593" y="4707"/>
                </a:lnTo>
                <a:lnTo>
                  <a:pt x="16368" y="4707"/>
                </a:lnTo>
                <a:lnTo>
                  <a:pt x="16368" y="8224"/>
                </a:lnTo>
                <a:close/>
              </a:path>
              <a:path fill="darkenLess" w="24033" h="21600">
                <a:moveTo>
                  <a:pt x="11094" y="14299"/>
                </a:moveTo>
                <a:lnTo>
                  <a:pt x="12939" y="14299"/>
                </a:lnTo>
                <a:lnTo>
                  <a:pt x="12939" y="17989"/>
                </a:lnTo>
                <a:lnTo>
                  <a:pt x="17326" y="17989"/>
                </a:lnTo>
                <a:lnTo>
                  <a:pt x="17326" y="10800"/>
                </a:lnTo>
                <a:lnTo>
                  <a:pt x="6707" y="10800"/>
                </a:lnTo>
                <a:lnTo>
                  <a:pt x="6707" y="17989"/>
                </a:lnTo>
                <a:lnTo>
                  <a:pt x="11094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00000" y="119700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_____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怎么了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42920" y="2492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What’s wrong with ______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6000" y="393372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哪儿不舒服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87280" y="530064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ere is uncomfortabl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11280" y="2060640"/>
            <a:ext cx="3384360" cy="29080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211640" y="692280"/>
            <a:ext cx="115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ahoma"/>
              </a:rPr>
              <a:t>问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11640" y="429264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Tahoma"/>
              </a:rPr>
              <a:t>回答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356000" y="198900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她怎么了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27640" y="3068640"/>
            <a:ext cx="62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她哪儿不舒服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84720" y="544500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她牙疼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211640" y="692280"/>
            <a:ext cx="115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ahoma"/>
              </a:rPr>
              <a:t>问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11640" y="429264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Tahoma"/>
              </a:rPr>
              <a:t>回答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356000" y="198900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他怎么了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27640" y="3068640"/>
            <a:ext cx="62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他哪儿不舒服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84720" y="544500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他头疼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11280" y="2060640"/>
            <a:ext cx="2808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211640" y="692280"/>
            <a:ext cx="115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ahoma"/>
              </a:rPr>
              <a:t>问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11640" y="429264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Tahoma"/>
              </a:rPr>
              <a:t>回答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56000" y="198900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他怎么了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27640" y="3068640"/>
            <a:ext cx="62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他哪儿不舒服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84720" y="544500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他手疼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95280" y="1773360"/>
            <a:ext cx="2943360" cy="30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7T13:35:23Z</dcterms:created>
  <dc:creator>User</dc:creator>
  <dc:description/>
  <dc:language>en-US</dc:language>
  <cp:lastModifiedBy>User</cp:lastModifiedBy>
  <dcterms:modified xsi:type="dcterms:W3CDTF">2012-04-08T11:35:36Z</dcterms:modified>
  <cp:revision>6</cp:revision>
  <dc:subject/>
  <dc:title>幻灯片 1</dc:title>
</cp:coreProperties>
</file>