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5797-05E5-41AC-9022-E7E26BF831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Clicking the button will lead back to the first page (Objectives) where you can choose another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0E1D-7904-4EA3-9E0A-93E6A5B7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270-C50D-4BD1-8082-DA6DE007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048-BAC1-4254-B7FD-B2858252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ED8-C70A-48BC-A975-83B8A8E5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B84D-E8E2-42DF-9747-E729C948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83FC-C75C-4731-8930-40018CD7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A1ED-8E8B-419F-A6EA-EE002047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CE77-9887-4E6E-955E-1F583D74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2D96-789E-47F2-A714-8A805D67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7838-0893-4C2C-9009-1A4C2F91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2574-64FF-4F15-9DC6-65BFEBDC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D01-C06E-4E83-8772-D0EE6A87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2FCF-7E68-4DC4-BF65-45FD661C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DB06-847C-4E7C-BA88-A1668B5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6C63-C16F-402E-94FF-85343C91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17EC-8CBE-4ED2-BA39-99EB4366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61DF-033F-456A-8C12-93D7C08C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193-06CE-460A-AAA4-D315A4ED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D82C-BD58-47C8-99BD-70F9484A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D2F-779C-4FD1-894A-32D6A4F6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7DC-5AD6-44AE-B1B6-847A35D6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F23-95FA-405E-9030-3DFA09F1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E22-5352-4F66-A9D5-06673300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607-5F84-4383-9979-FE1ACEED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EAFB-73B0-4F44-8BB4-5ADE8559BF6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492F-3EBA-4704-BE70-223F673F998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44.xml"/><Relationship Id="rId10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4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我全身不舒服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嗓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808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肚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脚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90792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炎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70828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797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2781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a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4797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a c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981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inflam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93080" y="198900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804000" y="4292640"/>
            <a:ext cx="2038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13372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64500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4653000"/>
            <a:ext cx="1944720" cy="1671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肚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嗓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4437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牙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4365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手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热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356000" y="177336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9564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643280" y="4292640"/>
            <a:ext cx="1586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for negative feelings and th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08720" y="4724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47242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04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生病了，你应该。。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116000" y="4581360"/>
            <a:ext cx="655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医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病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00360" y="333360"/>
            <a:ext cx="36720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27664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2" action="ppaction://hlinksldjump"/>
              </a:rPr>
              <a:t>Body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3" action="ppaction://hlinksldjump"/>
              </a:rPr>
              <a:t>身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2276640"/>
            <a:ext cx="3166920" cy="718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4" action="ppaction://hlinksldjump"/>
              </a:rPr>
              <a:t>Sickness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5" action="ppaction://hlinksldjump"/>
              </a:rPr>
              <a:t>生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443700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6" action="ppaction://hlinksldjump"/>
              </a:rPr>
              <a:t>See doctor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7" action="ppaction://hlinksldjump"/>
              </a:rPr>
              <a:t>看病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436572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708360" y="1341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3068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了？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Vs 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916280"/>
            <a:ext cx="9144000" cy="21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’s wrong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 happened to you?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（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ave no prior knowledge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292640"/>
            <a:ext cx="9144000" cy="1434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is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are you?              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3500280"/>
            <a:ext cx="74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感冒了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天气很冷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穿很少的衣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796000" y="620640"/>
            <a:ext cx="2914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肚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晚上我吃了太多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292720" y="549360"/>
            <a:ext cx="309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3860640"/>
            <a:ext cx="748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她嗓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她是老师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每天说很多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99888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他很头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他有很多作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003640" y="861840"/>
            <a:ext cx="38163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76720" y="1413000"/>
            <a:ext cx="626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1268280"/>
            <a:ext cx="453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医生会说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76720" y="263700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51280" y="1484280"/>
            <a:ext cx="4392360" cy="5031000"/>
            <a:chOff x="4751280" y="1484280"/>
            <a:chExt cx="4392360" cy="5031000"/>
          </a:xfrm>
        </p:grpSpPr>
        <p:sp>
          <p:nvSpPr>
            <p:cNvPr id="226" name=""/>
            <p:cNvSpPr/>
            <p:nvPr/>
          </p:nvSpPr>
          <p:spPr>
            <a:xfrm>
              <a:off x="5470200" y="148428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休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喝水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穿衣服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去医院看病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吃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51280" y="162900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132000" y="141300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8360" y="404640"/>
            <a:ext cx="4392360" cy="5031000"/>
            <a:chOff x="5148360" y="404640"/>
            <a:chExt cx="4392360" cy="5031000"/>
          </a:xfrm>
        </p:grpSpPr>
        <p:sp>
          <p:nvSpPr>
            <p:cNvPr id="231" name=""/>
            <p:cNvSpPr/>
            <p:nvPr/>
          </p:nvSpPr>
          <p:spPr>
            <a:xfrm>
              <a:off x="5867280" y="40464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上课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锻炼身体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打球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跳舞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做作业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54936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68360" y="508464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用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5229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住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，不能，不用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要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ave to,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can not to. 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可以”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s OK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don’t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03280" y="404280"/>
            <a:ext cx="612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5897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:0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2303280" cy="2047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672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:3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3110040" cy="207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5636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:15 p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2060640"/>
            <a:ext cx="2376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659640" y="69228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1944720" cy="1671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7020000" y="465300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564000" y="1052640"/>
            <a:ext cx="172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55640" y="404640"/>
            <a:ext cx="2087640" cy="58618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看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上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唱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学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天气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333360"/>
            <a:ext cx="2735280" cy="5861880"/>
          </a:xfrm>
          <a:prstGeom prst="rect">
            <a:avLst/>
          </a:prstGeom>
          <a:solidFill>
            <a:srgbClr val="e5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挂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打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睡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听音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多穿衣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要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想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愿意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565360"/>
            <a:ext cx="5472000" cy="764280"/>
            <a:chOff x="3348000" y="2565360"/>
            <a:chExt cx="5472000" cy="764280"/>
          </a:xfrm>
        </p:grpSpPr>
        <p:sp>
          <p:nvSpPr>
            <p:cNvPr id="247" name=""/>
            <p:cNvSpPr/>
            <p:nvPr/>
          </p:nvSpPr>
          <p:spPr>
            <a:xfrm>
              <a:off x="4788000" y="2565360"/>
              <a:ext cx="403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想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2708280"/>
              <a:ext cx="1295280" cy="576360"/>
            </a:xfrm>
            <a:prstGeom prst="rightArrow">
              <a:avLst>
                <a:gd name="adj1" fmla="val 50000"/>
                <a:gd name="adj2" fmla="val 561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843280" y="5661000"/>
            <a:ext cx="6300360" cy="764280"/>
            <a:chOff x="2843280" y="5661000"/>
            <a:chExt cx="6300360" cy="764280"/>
          </a:xfrm>
        </p:grpSpPr>
        <p:sp>
          <p:nvSpPr>
            <p:cNvPr id="250" name=""/>
            <p:cNvSpPr/>
            <p:nvPr/>
          </p:nvSpPr>
          <p:spPr>
            <a:xfrm>
              <a:off x="4501080" y="5661000"/>
              <a:ext cx="4642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愿意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43280" y="5803920"/>
              <a:ext cx="1491120" cy="576360"/>
            </a:xfrm>
            <a:prstGeom prst="rightArrow">
              <a:avLst>
                <a:gd name="adj1" fmla="val 50000"/>
                <a:gd name="adj2" fmla="val 64678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要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strong dem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想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h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愿意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willingn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Read Page P177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xpress one’s desire or n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571680" y="2793960"/>
            <a:ext cx="814356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   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Make an alternative question for each of th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1571760" y="5217120"/>
            <a:ext cx="5857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他是中国人还是美国人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58" name="Picture 4" descr="D:\Chinese PPT\International Chinese picture\Lesson 3\116533ef027.jpg"/>
          <p:cNvPicPr/>
          <p:nvPr/>
        </p:nvPicPr>
        <p:blipFill>
          <a:blip r:embed="rId2"/>
          <a:stretch/>
        </p:blipFill>
        <p:spPr>
          <a:xfrm>
            <a:off x="3000240" y="1357200"/>
            <a:ext cx="2957760" cy="3286080"/>
          </a:xfrm>
          <a:prstGeom prst="rect">
            <a:avLst/>
          </a:prstGeom>
          <a:ln w="0">
            <a:noFill/>
          </a:ln>
        </p:spPr>
      </p:pic>
      <p:sp>
        <p:nvSpPr>
          <p:cNvPr id="259" name="矩形 4"/>
          <p:cNvSpPr/>
          <p:nvPr/>
        </p:nvSpPr>
        <p:spPr>
          <a:xfrm>
            <a:off x="6735600" y="1928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6750000" y="29242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357200" y="5288400"/>
            <a:ext cx="66438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喜欢吃中国饭还是日本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D:\Chinese PPT\International Chinese picture\Lesson 3\1_200704281641511_thumb.jpg"/>
          <p:cNvPicPr/>
          <p:nvPr/>
        </p:nvPicPr>
        <p:blipFill>
          <a:blip r:embed="rId2"/>
          <a:stretch/>
        </p:blipFill>
        <p:spPr>
          <a:xfrm>
            <a:off x="2571840" y="1857240"/>
            <a:ext cx="3686040" cy="3071880"/>
          </a:xfrm>
          <a:prstGeom prst="rect">
            <a:avLst/>
          </a:prstGeom>
          <a:ln w="0">
            <a:noFill/>
          </a:ln>
        </p:spPr>
      </p:pic>
      <p:sp>
        <p:nvSpPr>
          <p:cNvPr id="263" name="矩形 4"/>
          <p:cNvSpPr/>
          <p:nvPr/>
        </p:nvSpPr>
        <p:spPr>
          <a:xfrm>
            <a:off x="6878520" y="2286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6878520" y="35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979640" y="10717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喜欢吃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357120" y="5002920"/>
            <a:ext cx="63025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李先生是老师还是医生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D:\Chinese PPT\International Chinese picture\Lesson 1\2007613141933227_2.jpg"/>
          <p:cNvPicPr/>
          <p:nvPr/>
        </p:nvPicPr>
        <p:blipFill>
          <a:blip r:embed="rId2"/>
          <a:stretch/>
        </p:blipFill>
        <p:spPr>
          <a:xfrm>
            <a:off x="6286680" y="1428840"/>
            <a:ext cx="2447640" cy="4190760"/>
          </a:xfrm>
          <a:prstGeom prst="rect">
            <a:avLst/>
          </a:prstGeom>
          <a:ln w="0">
            <a:noFill/>
          </a:ln>
        </p:spPr>
      </p:pic>
      <p:sp>
        <p:nvSpPr>
          <p:cNvPr id="268" name="矩形 4"/>
          <p:cNvSpPr/>
          <p:nvPr/>
        </p:nvSpPr>
        <p:spPr>
          <a:xfrm>
            <a:off x="4848120" y="228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老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4848120" y="3214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医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97164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李先生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做什么工作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714240" y="50745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我们六点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(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吃饭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)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七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C:\Documents and Settings\Administrator\桌面\1-1.bmp"/>
          <p:cNvPicPr/>
          <p:nvPr/>
        </p:nvPicPr>
        <p:blipFill>
          <a:blip r:embed="rId2"/>
          <a:stretch/>
        </p:blipFill>
        <p:spPr>
          <a:xfrm>
            <a:off x="5143680" y="1500120"/>
            <a:ext cx="3314520" cy="3326040"/>
          </a:xfrm>
          <a:prstGeom prst="rect">
            <a:avLst/>
          </a:prstGeom>
          <a:ln w="0">
            <a:noFill/>
          </a:ln>
        </p:spPr>
      </p:pic>
      <p:sp>
        <p:nvSpPr>
          <p:cNvPr id="273" name="矩形 4"/>
          <p:cNvSpPr/>
          <p:nvPr/>
        </p:nvSpPr>
        <p:spPr>
          <a:xfrm>
            <a:off x="3705120" y="235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六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矩形 5"/>
          <p:cNvSpPr/>
          <p:nvPr/>
        </p:nvSpPr>
        <p:spPr>
          <a:xfrm>
            <a:off x="3705120" y="3286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七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979640" y="476280"/>
            <a:ext cx="40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们几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714240" y="48603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今天是星期四还是星期五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D:\Chinese PPT\International Chinese picture\Lesson 3\1509121N444.jpg"/>
          <p:cNvPicPr/>
          <p:nvPr/>
        </p:nvPicPr>
        <p:blipFill>
          <a:blip r:embed="rId2"/>
          <a:stretch/>
        </p:blipFill>
        <p:spPr>
          <a:xfrm>
            <a:off x="5429160" y="1785960"/>
            <a:ext cx="3353040" cy="2517840"/>
          </a:xfrm>
          <a:prstGeom prst="rect">
            <a:avLst/>
          </a:prstGeom>
          <a:ln w="0">
            <a:noFill/>
          </a:ln>
        </p:spPr>
      </p:pic>
      <p:sp>
        <p:nvSpPr>
          <p:cNvPr id="278" name="矩形 4"/>
          <p:cNvSpPr/>
          <p:nvPr/>
        </p:nvSpPr>
        <p:spPr>
          <a:xfrm>
            <a:off x="3806640" y="2357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矩形 5"/>
          <p:cNvSpPr/>
          <p:nvPr/>
        </p:nvSpPr>
        <p:spPr>
          <a:xfrm>
            <a:off x="3806640" y="3286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684360" y="2852640"/>
            <a:ext cx="1584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今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500720" cy="525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35280" y="1484280"/>
            <a:ext cx="1584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052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836640"/>
            <a:ext cx="1150920" cy="5040360"/>
          </a:xfrm>
          <a:custGeom>
            <a:avLst/>
            <a:gdLst>
              <a:gd name="textAreaLeft" fmla="*/ 0 w 1150920"/>
              <a:gd name="textAreaRight" fmla="*/ 415440 w 115092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2421000"/>
            <a:ext cx="93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213000"/>
            <a:ext cx="1368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7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4941720"/>
            <a:ext cx="1366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5086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8760" y="528840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请我吃饭还是我请你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D:\Chinese PPT\International Chinese picture\Lesson 1\200811320448253_2.jpg"/>
          <p:cNvPicPr/>
          <p:nvPr/>
        </p:nvPicPr>
        <p:blipFill>
          <a:blip r:embed="rId2"/>
          <a:stretch/>
        </p:blipFill>
        <p:spPr>
          <a:xfrm>
            <a:off x="3500280" y="1285920"/>
            <a:ext cx="2752920" cy="3876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D:\Chinese PPT\International Chinese picture\Lesson 3\200856214729976_2.jpg"/>
          <p:cNvPicPr/>
          <p:nvPr/>
        </p:nvPicPr>
        <p:blipFill>
          <a:blip r:embed="rId3"/>
          <a:stretch/>
        </p:blipFill>
        <p:spPr>
          <a:xfrm>
            <a:off x="6286680" y="2000160"/>
            <a:ext cx="2631960" cy="2144880"/>
          </a:xfrm>
          <a:prstGeom prst="rect">
            <a:avLst/>
          </a:prstGeom>
          <a:ln w="0">
            <a:noFill/>
          </a:ln>
        </p:spPr>
      </p:pic>
      <p:sp>
        <p:nvSpPr>
          <p:cNvPr id="284" name="矩形 5"/>
          <p:cNvSpPr/>
          <p:nvPr/>
        </p:nvSpPr>
        <p:spPr>
          <a:xfrm>
            <a:off x="1295640" y="2357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请我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1295640" y="3286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请你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2943360" cy="3036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00000" y="4797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手疼还是脚疼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168720" cy="23731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932360" y="692280"/>
            <a:ext cx="3402000" cy="22431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68360" y="357336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中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6720" y="350028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西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51577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愿意吃中药还是西药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042920" y="47628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做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881440" cy="2236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3240000" cy="2741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258920" y="450864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43657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休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558972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锻炼身体还是休息一下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ramm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8360" y="1700280"/>
            <a:ext cx="5398920" cy="4822200"/>
            <a:chOff x="468360" y="1700280"/>
            <a:chExt cx="5398920" cy="4822200"/>
          </a:xfrm>
        </p:grpSpPr>
        <p:sp>
          <p:nvSpPr>
            <p:cNvPr id="302" name=""/>
            <p:cNvSpPr/>
            <p:nvPr/>
          </p:nvSpPr>
          <p:spPr>
            <a:xfrm>
              <a:off x="539640" y="1700280"/>
              <a:ext cx="31687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有（一）点儿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360" y="263700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怎么了？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Vs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怎么样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>
              <a:hlinkClick r:id="rId6" action="ppaction://hlinksldjump"/>
            </p:cNvPr>
            <p:cNvSpPr/>
            <p:nvPr/>
          </p:nvSpPr>
          <p:spPr>
            <a:xfrm>
              <a:off x="539640" y="371628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7" action="ppaction://hlinksldjump"/>
                </a:rPr>
                <a:t>要，不能，不用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1280" y="5805360"/>
              <a:ext cx="51829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8" action="ppaction://hlinksldjump"/>
                </a:rPr>
                <a:t>还是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640" y="4724280"/>
              <a:ext cx="53276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9" action="ppaction://hlinksldjump"/>
                </a:rPr>
                <a:t>想，要，愿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48360" y="765000"/>
            <a:ext cx="2736720" cy="188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35280" y="3213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3213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嗓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80000" y="5373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肚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1197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4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What’s wrong with ______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393372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530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is uncomfortab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384360" cy="290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牙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手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94336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3:35:23Z</dcterms:created>
  <dc:creator>User</dc:creator>
  <dc:description/>
  <dc:language>en-US</dc:language>
  <cp:lastModifiedBy>User</cp:lastModifiedBy>
  <dcterms:modified xsi:type="dcterms:W3CDTF">2012-04-08T11:35:36Z</dcterms:modified>
  <cp:revision>6</cp:revision>
  <dc:subject/>
  <dc:title>幻灯片 1</dc:title>
</cp:coreProperties>
</file>