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7BF9-610D-4565-9A0A-31E06D5D0C0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Clicking the button will lead back to the first page (Objectives) where you can choose another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84A5-BE0E-4219-8420-D16E4DB5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66D-20F4-4C8B-A4AF-FA61A4EF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93D-883E-4047-853C-4F693CC6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40A-631D-4EC0-8C47-C08449DC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4BAE-E3B3-4488-87CC-7CCA7B1C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2221-07BB-4296-88DC-1FE6A24A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ACF9-DC6D-46CA-B31F-24B95F73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4C4C-5ECD-4852-ABA0-9089745B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69A7-0FCF-4C4B-8DEF-56D26691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7A59-9411-4E94-B022-7D412549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E0A5-8691-40A7-A3BB-F7E01597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B65-6BEA-42CC-AA66-D113F525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7B2E-15B7-4DBE-A81A-895E1D35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E3C5-1EFC-4A54-A4A5-A33B3382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B9C1-49A1-49E8-A1D2-B392FACA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0B1E-40EE-4240-9CDB-D5710DA3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1C0E-B61F-406D-B449-AA449F53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7339-2B80-45CE-A65F-89BD1792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434C-4DD3-40F6-B402-C6E145F4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2582-DAB7-4CCC-B0D0-12A78716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44B1-C874-472E-8BAC-F230D5BA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3724-72E6-4338-BE14-9FF83312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74A-FA74-49BA-A977-313E059E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492-BF1C-4D0C-A1DF-CC437436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0A1D-FF26-488B-B15C-E3B97221E03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81EB-EFE1-4223-9CD0-5200BA69F90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44.xml"/><Relationship Id="rId10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34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我全身不舒服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她嗓子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28080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肚子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脚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9640" y="90792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发炎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270828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发烧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479736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感冒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2781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ve a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4797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 a co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98100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ve inflam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093080" y="1989000"/>
            <a:ext cx="1552320" cy="2049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804000" y="4292640"/>
            <a:ext cx="20383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（一）点儿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+ adj/verb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213372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我头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364500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我头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（一）点儿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ir exerci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572000" y="1844640"/>
            <a:ext cx="1873080" cy="1873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0" y="4653000"/>
            <a:ext cx="1944720" cy="1671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1685880" cy="1739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24000" y="1844640"/>
            <a:ext cx="20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肚子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170028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嗓子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44370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牙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04000" y="43657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手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ir exerci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124000" y="1844640"/>
            <a:ext cx="20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发烧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04000" y="170028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感冒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436572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热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1552320" cy="2049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356000" y="1773360"/>
            <a:ext cx="2038320" cy="2200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95640" y="436572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不高兴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324000" y="47242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4643280" y="4292640"/>
            <a:ext cx="15861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for negative feelings and th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（一）点儿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+ adj/verb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1868400" cy="2584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403280" y="1916280"/>
            <a:ext cx="2519280" cy="1881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508720" y="47242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医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8000" y="47242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医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04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生病了，你应该。。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2519280" cy="1881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5292720" y="1413000"/>
            <a:ext cx="1868400" cy="2584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116000" y="4581360"/>
            <a:ext cx="6551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去医院看医生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去医院看病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700360" y="333360"/>
            <a:ext cx="367200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276640"/>
            <a:ext cx="3166920" cy="720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2" action="ppaction://hlinksldjump"/>
              </a:rPr>
              <a:t>Body 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3" action="ppaction://hlinksldjump"/>
              </a:rPr>
              <a:t>身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48360" y="2276640"/>
            <a:ext cx="3166920" cy="718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4" action="ppaction://hlinksldjump"/>
              </a:rPr>
              <a:t>Sickness 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5" action="ppaction://hlinksldjump"/>
              </a:rPr>
              <a:t>生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4437000"/>
            <a:ext cx="3166920" cy="720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6" action="ppaction://hlinksldjump"/>
              </a:rPr>
              <a:t>See doctor 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7" action="ppaction://hlinksldjump"/>
              </a:rPr>
              <a:t>看病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48360" y="4365720"/>
            <a:ext cx="3166920" cy="720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Gram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1868760" cy="2584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708360" y="134136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你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51280" y="306864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你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_____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怎么样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怎么了？</a:t>
            </a: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Vs </a:t>
            </a: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怎么样？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916280"/>
            <a:ext cx="9144000" cy="21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What’s wrong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What happened to you?    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（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have no prior knowledge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292640"/>
            <a:ext cx="9144000" cy="1434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How is 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How are you?                  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怎么样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2038320" cy="22003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3500280"/>
            <a:ext cx="748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我感冒了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昨天天气很冷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我穿很少的衣服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5796000" y="620640"/>
            <a:ext cx="2914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3860640"/>
            <a:ext cx="748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我肚子疼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昨天晚上我吃了太多饭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292720" y="549360"/>
            <a:ext cx="3095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3860640"/>
            <a:ext cx="748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她嗓子疼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她是老师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每天说很多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859280" y="1916280"/>
            <a:ext cx="3998880" cy="26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3860640"/>
            <a:ext cx="748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他很头疼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他有很多作业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003640" y="861840"/>
            <a:ext cx="381636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1868760" cy="2584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276720" y="1413000"/>
            <a:ext cx="626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5280" y="1268280"/>
            <a:ext cx="453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医生会说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2867040" cy="3095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276720" y="2637000"/>
            <a:ext cx="136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ahoma"/>
              </a:rPr>
              <a:t>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751280" y="1484280"/>
            <a:ext cx="4392360" cy="5031000"/>
            <a:chOff x="4751280" y="1484280"/>
            <a:chExt cx="4392360" cy="5031000"/>
          </a:xfrm>
        </p:grpSpPr>
        <p:sp>
          <p:nvSpPr>
            <p:cNvPr id="226" name=""/>
            <p:cNvSpPr/>
            <p:nvPr/>
          </p:nvSpPr>
          <p:spPr>
            <a:xfrm>
              <a:off x="5470200" y="1484280"/>
              <a:ext cx="3673440" cy="50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（多）休息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（多）喝水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（多）穿衣服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去医院看病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吃药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51280" y="1629000"/>
              <a:ext cx="431640" cy="316692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82440 h 3166920"/>
                <a:gd name="textAreaBottom" fmla="*/ 3084480 h 31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2867040" cy="3095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132000" y="1413000"/>
            <a:ext cx="21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ahoma"/>
              </a:rPr>
              <a:t>不能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148360" y="404640"/>
            <a:ext cx="4392360" cy="5031000"/>
            <a:chOff x="5148360" y="404640"/>
            <a:chExt cx="4392360" cy="5031000"/>
          </a:xfrm>
        </p:grpSpPr>
        <p:sp>
          <p:nvSpPr>
            <p:cNvPr id="231" name=""/>
            <p:cNvSpPr/>
            <p:nvPr/>
          </p:nvSpPr>
          <p:spPr>
            <a:xfrm>
              <a:off x="5867280" y="404640"/>
              <a:ext cx="3673440" cy="50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上课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锻炼身体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打球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跳舞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做作业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48360" y="549360"/>
              <a:ext cx="431640" cy="316692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82440 h 3166920"/>
                <a:gd name="textAreaBottom" fmla="*/ 3084480 h 31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68360" y="5084640"/>
            <a:ext cx="201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ahoma"/>
              </a:rPr>
              <a:t>不用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360" y="5229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住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要，不能，不用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要：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ave to, ne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能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 can not to. 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可以”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s OK to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 don’t ne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03280" y="404280"/>
            <a:ext cx="6121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Re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558972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6:00 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564000" y="2060640"/>
            <a:ext cx="2303280" cy="2047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76720" y="566100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:30 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2060640"/>
            <a:ext cx="3110040" cy="2070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56360" y="566100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:15 p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43640" y="2060640"/>
            <a:ext cx="237636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6659640" y="69228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50920" y="4724280"/>
            <a:ext cx="1944720" cy="1671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7020000" y="4653000"/>
            <a:ext cx="1685880" cy="17398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564000" y="1052640"/>
            <a:ext cx="1728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不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不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755640" y="404640"/>
            <a:ext cx="2087640" cy="58618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看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不高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上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唱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去学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天气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64000" y="333360"/>
            <a:ext cx="2735280" cy="5861880"/>
          </a:xfrm>
          <a:prstGeom prst="rect">
            <a:avLst/>
          </a:prstGeom>
          <a:solidFill>
            <a:srgbClr val="e5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锻炼身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挂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打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睡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听音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多穿衣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ffff"/>
                </a:solidFill>
                <a:latin typeface="Tahoma"/>
              </a:rPr>
              <a:t>要，想，愿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我要吃烤鸭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我想吃烤鸭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我愿意吃烤鸭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348000" y="2565360"/>
            <a:ext cx="5472000" cy="764280"/>
            <a:chOff x="3348000" y="2565360"/>
            <a:chExt cx="5472000" cy="764280"/>
          </a:xfrm>
        </p:grpSpPr>
        <p:sp>
          <p:nvSpPr>
            <p:cNvPr id="247" name=""/>
            <p:cNvSpPr/>
            <p:nvPr/>
          </p:nvSpPr>
          <p:spPr>
            <a:xfrm>
              <a:off x="4788000" y="2565360"/>
              <a:ext cx="403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我</a:t>
              </a:r>
              <a:r>
                <a:rPr b="1" lang="zh-CN" sz="4400" spc="-1" strike="noStrike">
                  <a:solidFill>
                    <a:srgbClr val="ffcc00"/>
                  </a:solidFill>
                  <a:latin typeface="Tahoma"/>
                </a:rPr>
                <a:t>不想</a:t>
              </a: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吃烤鸭。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48000" y="2708280"/>
              <a:ext cx="1295280" cy="576360"/>
            </a:xfrm>
            <a:prstGeom prst="rightArrow">
              <a:avLst>
                <a:gd name="adj1" fmla="val 50000"/>
                <a:gd name="adj2" fmla="val 561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843280" y="5661000"/>
            <a:ext cx="6300360" cy="764280"/>
            <a:chOff x="2843280" y="5661000"/>
            <a:chExt cx="6300360" cy="764280"/>
          </a:xfrm>
        </p:grpSpPr>
        <p:sp>
          <p:nvSpPr>
            <p:cNvPr id="250" name=""/>
            <p:cNvSpPr/>
            <p:nvPr/>
          </p:nvSpPr>
          <p:spPr>
            <a:xfrm>
              <a:off x="4501080" y="5661000"/>
              <a:ext cx="4642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我</a:t>
              </a:r>
              <a:r>
                <a:rPr b="1" lang="zh-CN" sz="4400" spc="-1" strike="noStrike">
                  <a:solidFill>
                    <a:srgbClr val="ffcc00"/>
                  </a:solidFill>
                  <a:latin typeface="Tahoma"/>
                </a:rPr>
                <a:t>不愿意</a:t>
              </a: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吃烤鸭。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43280" y="5803920"/>
              <a:ext cx="1491120" cy="576360"/>
            </a:xfrm>
            <a:prstGeom prst="rightArrow">
              <a:avLst>
                <a:gd name="adj1" fmla="val 50000"/>
                <a:gd name="adj2" fmla="val 64678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ffff"/>
                </a:solidFill>
                <a:latin typeface="Tahoma"/>
              </a:rPr>
              <a:t>要，想，愿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要”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is intention and strong dem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想”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is intention and hop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愿意”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is willingn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Read Page P177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express one’s desire or n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571680" y="2793960"/>
            <a:ext cx="8143560" cy="1922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   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...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还是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..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Make an alternative question for each of the follow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  <a:ea typeface="宋体"/>
              </a:rPr>
              <a:t>Alternative questio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1571760" y="5217120"/>
            <a:ext cx="5857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他是中国人还是美国人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  <a:ea typeface="宋体"/>
              </a:rPr>
              <a:t>Alternative questio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58" name="Picture 4" descr="D:\Chinese PPT\International Chinese picture\Lesson 3\116533ef027.jpg"/>
          <p:cNvPicPr/>
          <p:nvPr/>
        </p:nvPicPr>
        <p:blipFill>
          <a:blip r:embed="rId2"/>
          <a:stretch/>
        </p:blipFill>
        <p:spPr>
          <a:xfrm>
            <a:off x="3000240" y="1357200"/>
            <a:ext cx="2957760" cy="3286080"/>
          </a:xfrm>
          <a:prstGeom prst="rect">
            <a:avLst/>
          </a:prstGeom>
          <a:ln w="0">
            <a:noFill/>
          </a:ln>
        </p:spPr>
      </p:pic>
      <p:sp>
        <p:nvSpPr>
          <p:cNvPr id="259" name="矩形 4"/>
          <p:cNvSpPr/>
          <p:nvPr/>
        </p:nvSpPr>
        <p:spPr>
          <a:xfrm>
            <a:off x="6735600" y="19288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中国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矩形 5"/>
          <p:cNvSpPr/>
          <p:nvPr/>
        </p:nvSpPr>
        <p:spPr>
          <a:xfrm>
            <a:off x="6750000" y="292428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美国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1357200" y="5288400"/>
            <a:ext cx="66438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你喜欢吃中国饭还是日本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4" descr="D:\Chinese PPT\International Chinese picture\Lesson 3\1_200704281641511_thumb.jpg"/>
          <p:cNvPicPr/>
          <p:nvPr/>
        </p:nvPicPr>
        <p:blipFill>
          <a:blip r:embed="rId2"/>
          <a:stretch/>
        </p:blipFill>
        <p:spPr>
          <a:xfrm>
            <a:off x="2571840" y="1857240"/>
            <a:ext cx="3686040" cy="3071880"/>
          </a:xfrm>
          <a:prstGeom prst="rect">
            <a:avLst/>
          </a:prstGeom>
          <a:ln w="0">
            <a:noFill/>
          </a:ln>
        </p:spPr>
      </p:pic>
      <p:sp>
        <p:nvSpPr>
          <p:cNvPr id="263" name="矩形 4"/>
          <p:cNvSpPr/>
          <p:nvPr/>
        </p:nvSpPr>
        <p:spPr>
          <a:xfrm>
            <a:off x="6878520" y="2286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中国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矩形 5"/>
          <p:cNvSpPr/>
          <p:nvPr/>
        </p:nvSpPr>
        <p:spPr>
          <a:xfrm>
            <a:off x="6878520" y="3500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美国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979640" y="107172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你喜欢吃什么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357120" y="5002920"/>
            <a:ext cx="63025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李先生是老师还是医生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" descr="D:\Chinese PPT\International Chinese picture\Lesson 1\2007613141933227_2.jpg"/>
          <p:cNvPicPr/>
          <p:nvPr/>
        </p:nvPicPr>
        <p:blipFill>
          <a:blip r:embed="rId2"/>
          <a:stretch/>
        </p:blipFill>
        <p:spPr>
          <a:xfrm>
            <a:off x="6286680" y="1428840"/>
            <a:ext cx="2447640" cy="4190760"/>
          </a:xfrm>
          <a:prstGeom prst="rect">
            <a:avLst/>
          </a:prstGeom>
          <a:ln w="0">
            <a:noFill/>
          </a:ln>
        </p:spPr>
      </p:pic>
      <p:sp>
        <p:nvSpPr>
          <p:cNvPr id="268" name="矩形 4"/>
          <p:cNvSpPr/>
          <p:nvPr/>
        </p:nvSpPr>
        <p:spPr>
          <a:xfrm>
            <a:off x="4848120" y="2286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老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矩形 5"/>
          <p:cNvSpPr/>
          <p:nvPr/>
        </p:nvSpPr>
        <p:spPr>
          <a:xfrm>
            <a:off x="4848120" y="3214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医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971640" y="40464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楷体"/>
              </a:rPr>
              <a:t>李先生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做什么工作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714240" y="5074560"/>
            <a:ext cx="8143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我们六点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(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吃饭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)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还是七点吃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C:\Documents and Settings\Administrator\桌面\1-1.bmp"/>
          <p:cNvPicPr/>
          <p:nvPr/>
        </p:nvPicPr>
        <p:blipFill>
          <a:blip r:embed="rId2"/>
          <a:stretch/>
        </p:blipFill>
        <p:spPr>
          <a:xfrm>
            <a:off x="5143680" y="1500120"/>
            <a:ext cx="3314520" cy="3326040"/>
          </a:xfrm>
          <a:prstGeom prst="rect">
            <a:avLst/>
          </a:prstGeom>
          <a:ln w="0">
            <a:noFill/>
          </a:ln>
        </p:spPr>
      </p:pic>
      <p:sp>
        <p:nvSpPr>
          <p:cNvPr id="273" name="矩形 4"/>
          <p:cNvSpPr/>
          <p:nvPr/>
        </p:nvSpPr>
        <p:spPr>
          <a:xfrm>
            <a:off x="3705120" y="2357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六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矩形 5"/>
          <p:cNvSpPr/>
          <p:nvPr/>
        </p:nvSpPr>
        <p:spPr>
          <a:xfrm>
            <a:off x="3705120" y="3286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七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979640" y="476280"/>
            <a:ext cx="401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我们几点吃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714240" y="4860360"/>
            <a:ext cx="8143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今天是星期四还是星期五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D:\Chinese PPT\International Chinese picture\Lesson 3\1509121N444.jpg"/>
          <p:cNvPicPr/>
          <p:nvPr/>
        </p:nvPicPr>
        <p:blipFill>
          <a:blip r:embed="rId2"/>
          <a:stretch/>
        </p:blipFill>
        <p:spPr>
          <a:xfrm>
            <a:off x="5429160" y="1785960"/>
            <a:ext cx="3353040" cy="2517840"/>
          </a:xfrm>
          <a:prstGeom prst="rect">
            <a:avLst/>
          </a:prstGeom>
          <a:ln w="0">
            <a:noFill/>
          </a:ln>
        </p:spPr>
      </p:pic>
      <p:sp>
        <p:nvSpPr>
          <p:cNvPr id="278" name="矩形 4"/>
          <p:cNvSpPr/>
          <p:nvPr/>
        </p:nvSpPr>
        <p:spPr>
          <a:xfrm>
            <a:off x="3806640" y="2357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星期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矩形 5"/>
          <p:cNvSpPr/>
          <p:nvPr/>
        </p:nvSpPr>
        <p:spPr>
          <a:xfrm>
            <a:off x="3806640" y="3286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星期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684360" y="2852640"/>
            <a:ext cx="1584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今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4500720" cy="5256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835280" y="1484280"/>
            <a:ext cx="158436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052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08720" y="836640"/>
            <a:ext cx="1150920" cy="5040360"/>
          </a:xfrm>
          <a:custGeom>
            <a:avLst/>
            <a:gdLst>
              <a:gd name="textAreaLeft" fmla="*/ 0 w 1150920"/>
              <a:gd name="textAreaRight" fmla="*/ 415440 w 1150920"/>
              <a:gd name="textAreaTop" fmla="*/ 131400 h 5040360"/>
              <a:gd name="textAreaBottom" fmla="*/ 4908960 h 50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2421000"/>
            <a:ext cx="936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3213000"/>
            <a:ext cx="136836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278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4941720"/>
            <a:ext cx="136692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450864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428760" y="5288400"/>
            <a:ext cx="8143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你请我吃饭还是我请你吃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4" descr="D:\Chinese PPT\International Chinese picture\Lesson 1\200811320448253_2.jpg"/>
          <p:cNvPicPr/>
          <p:nvPr/>
        </p:nvPicPr>
        <p:blipFill>
          <a:blip r:embed="rId2"/>
          <a:stretch/>
        </p:blipFill>
        <p:spPr>
          <a:xfrm>
            <a:off x="3500280" y="1285920"/>
            <a:ext cx="2752920" cy="3876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D:\Chinese PPT\International Chinese picture\Lesson 3\200856214729976_2.jpg"/>
          <p:cNvPicPr/>
          <p:nvPr/>
        </p:nvPicPr>
        <p:blipFill>
          <a:blip r:embed="rId3"/>
          <a:stretch/>
        </p:blipFill>
        <p:spPr>
          <a:xfrm>
            <a:off x="6286680" y="2000160"/>
            <a:ext cx="2631960" cy="2144880"/>
          </a:xfrm>
          <a:prstGeom prst="rect">
            <a:avLst/>
          </a:prstGeom>
          <a:ln w="0">
            <a:noFill/>
          </a:ln>
        </p:spPr>
      </p:pic>
      <p:sp>
        <p:nvSpPr>
          <p:cNvPr id="284" name="矩形 5"/>
          <p:cNvSpPr/>
          <p:nvPr/>
        </p:nvSpPr>
        <p:spPr>
          <a:xfrm>
            <a:off x="1295640" y="2357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你请我吃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矩形 6"/>
          <p:cNvSpPr/>
          <p:nvPr/>
        </p:nvSpPr>
        <p:spPr>
          <a:xfrm>
            <a:off x="1295640" y="32860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我请你吃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5003640" y="981000"/>
            <a:ext cx="2943360" cy="3036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900000" y="47973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手疼还是脚疼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3168720" cy="23731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4932360" y="692280"/>
            <a:ext cx="3402000" cy="22431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68360" y="357336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中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76720" y="3500280"/>
            <a:ext cx="31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西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51577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愿意吃中药还是西药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042920" y="476280"/>
            <a:ext cx="605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想做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2881440" cy="22366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148360" y="1413000"/>
            <a:ext cx="3240000" cy="2741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258920" y="450864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锻炼身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35640" y="436572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休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00000" y="558972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想锻炼身体还是休息一下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Gramm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68360" y="1700280"/>
            <a:ext cx="5398920" cy="4822200"/>
            <a:chOff x="468360" y="1700280"/>
            <a:chExt cx="5398920" cy="4822200"/>
          </a:xfrm>
        </p:grpSpPr>
        <p:sp>
          <p:nvSpPr>
            <p:cNvPr id="302" name=""/>
            <p:cNvSpPr/>
            <p:nvPr/>
          </p:nvSpPr>
          <p:spPr>
            <a:xfrm>
              <a:off x="539640" y="1700280"/>
              <a:ext cx="316872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有（一）点儿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8360" y="2637000"/>
              <a:ext cx="518328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怎么了？ </a:t>
              </a: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Vs </a:t>
              </a: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怎么样？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>
              <a:hlinkClick r:id="rId6" action="ppaction://hlinksldjump"/>
            </p:cNvPr>
            <p:cNvSpPr/>
            <p:nvPr/>
          </p:nvSpPr>
          <p:spPr>
            <a:xfrm>
              <a:off x="539640" y="3716280"/>
              <a:ext cx="518328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7" action="ppaction://hlinksldjump"/>
                </a:rPr>
                <a:t>要，不能，不用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1280" y="5805360"/>
              <a:ext cx="518292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8" action="ppaction://hlinksldjump"/>
                </a:rPr>
                <a:t>还是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9640" y="4724280"/>
              <a:ext cx="53276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9" action="ppaction://hlinksldjump"/>
                </a:rPr>
                <a:t>想，要，愿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>
            <a:hlinkClick r:id="" action="ppaction://hlinkshowjump?jump=firs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148360" y="765000"/>
            <a:ext cx="2736720" cy="188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835280" y="32130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0360" y="321300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嗓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219400" cy="2057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580000" y="53737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肚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00000" y="1197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_____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4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What’s wrong with ______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393372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5300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ere is uncomfortabl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3384360" cy="2908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她牙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头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手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294336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3:35:23Z</dcterms:created>
  <dc:creator>User</dc:creator>
  <dc:description/>
  <dc:language>en-US</dc:language>
  <cp:lastModifiedBy>User</cp:lastModifiedBy>
  <dcterms:modified xsi:type="dcterms:W3CDTF">2012-04-08T11:35:36Z</dcterms:modified>
  <cp:revision>6</cp:revision>
  <dc:subject/>
  <dc:title>幻灯片 1</dc:title>
</cp:coreProperties>
</file>