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2797-124F-40A2-8A4C-9C4A81122E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Clicking the button will lead back to the first page (Objectives) where you can choose another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7B5-0277-4922-86E1-0562950E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E31-BD87-4DEA-A4D8-162A1D9B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55E-4310-4419-B971-499B0739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BC1-8FD7-4716-A0C6-3FC063D9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DF59-76FC-4124-BAE5-E26E5039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97E5-3A21-482E-AC61-DC12783D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4653-C823-4103-8C2E-BC7EB20C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28A3-FCF9-4CEC-92B5-DF7AB223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5D5D-B9E9-472A-8DED-394D7D4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028F-F2B3-480F-9D02-40ED323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54D6-E67D-436B-8AC3-EC7FC7F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2AC-AAAA-4979-869F-5378EEBE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5A5C-F162-4EE8-BFF2-EA85621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A224-E9BC-44EC-9120-6BC8B07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C6C0-A77A-46BF-9DF1-8BAD3FB7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0FD0-DC23-47EA-8C7D-E6AC1F1B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5ABB-E879-4D7A-B08E-7715FFD3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883-9896-4BA5-9F9D-455996D6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7F4-501C-4256-84D4-05E151E0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444-12DA-4675-8E69-DD3E89B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B40-7637-4C2F-A6F6-FB4C4F55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C34-30E7-40CB-A5D4-E0F42A0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A30-9062-4F5B-9A72-167CF777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B57-5BF8-482C-AB14-DD62AB3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1CE7-7D73-483B-86B5-3C62DB57F2D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CA7-09E9-4C0C-9EB8-B7B3A72B21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4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我全身不舒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嗓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肚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脚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9079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炎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7082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797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78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a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4797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a c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981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inflam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198900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2038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13372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64500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4653000"/>
            <a:ext cx="1944720" cy="167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肚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嗓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443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牙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365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手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热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77336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9564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643280" y="4292640"/>
            <a:ext cx="1586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for negative feelings and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0872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4724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生病了，你应该。。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16000" y="4581360"/>
            <a:ext cx="655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医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病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00360" y="333360"/>
            <a:ext cx="3672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27664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2" action="ppaction://hlinksldjump"/>
              </a:rPr>
              <a:t>Body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3" action="ppaction://hlinksldjump"/>
              </a:rPr>
              <a:t>身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2276640"/>
            <a:ext cx="3166920" cy="718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4" action="ppaction://hlinksldjump"/>
              </a:rPr>
              <a:t>Sickness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5" action="ppaction://hlinksldjump"/>
              </a:rPr>
              <a:t>生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43700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6" action="ppaction://hlinksldjump"/>
              </a:rPr>
              <a:t>See doctor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7" action="ppaction://hlinksldjump"/>
              </a:rPr>
              <a:t>看病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36572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708360" y="1341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3068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了？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Vs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916280"/>
            <a:ext cx="9144000" cy="21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’s wrong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 happened to you?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（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ave no prior knowledge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92640"/>
            <a:ext cx="9144000" cy="1434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is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are you?              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500280"/>
            <a:ext cx="74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感冒了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天气很冷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穿很少的衣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914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肚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晚上我吃了太多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3860640"/>
            <a:ext cx="748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她嗓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她是老师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每天说很多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99888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他很头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他有很多作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03640" y="861840"/>
            <a:ext cx="3816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76720" y="1413000"/>
            <a:ext cx="62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1268280"/>
            <a:ext cx="453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医生会说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76720" y="263700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1280" y="1484280"/>
            <a:ext cx="4392360" cy="5031000"/>
            <a:chOff x="4751280" y="1484280"/>
            <a:chExt cx="4392360" cy="5031000"/>
          </a:xfrm>
        </p:grpSpPr>
        <p:sp>
          <p:nvSpPr>
            <p:cNvPr id="226" name=""/>
            <p:cNvSpPr/>
            <p:nvPr/>
          </p:nvSpPr>
          <p:spPr>
            <a:xfrm>
              <a:off x="5470200" y="148428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休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喝水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穿衣服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去医院看病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吃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51280" y="162900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132000" y="141300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04640"/>
            <a:ext cx="4392360" cy="5031000"/>
            <a:chOff x="5148360" y="404640"/>
            <a:chExt cx="4392360" cy="5031000"/>
          </a:xfrm>
        </p:grpSpPr>
        <p:sp>
          <p:nvSpPr>
            <p:cNvPr id="231" name=""/>
            <p:cNvSpPr/>
            <p:nvPr/>
          </p:nvSpPr>
          <p:spPr>
            <a:xfrm>
              <a:off x="5867280" y="40464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上课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锻炼身体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打球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跳舞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做作业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54936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68360" y="508464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用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522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住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，不能，不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ave to,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can not to. 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可以”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s OK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don’t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589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:0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303280" cy="204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:3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3110040" cy="207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5636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:15 p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2376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659640" y="69228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944720" cy="167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564000" y="1052640"/>
            <a:ext cx="172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55640" y="404640"/>
            <a:ext cx="2087640" cy="5861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看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上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唱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学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天气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333360"/>
            <a:ext cx="2735280" cy="5861880"/>
          </a:xfrm>
          <a:prstGeom prst="rect">
            <a:avLst/>
          </a:prstGeom>
          <a:solidFill>
            <a:srgbClr val="e5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挂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打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睡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听音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多穿衣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要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想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愿意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565360"/>
            <a:ext cx="5472000" cy="764280"/>
            <a:chOff x="3348000" y="2565360"/>
            <a:chExt cx="5472000" cy="764280"/>
          </a:xfrm>
        </p:grpSpPr>
        <p:sp>
          <p:nvSpPr>
            <p:cNvPr id="247" name=""/>
            <p:cNvSpPr/>
            <p:nvPr/>
          </p:nvSpPr>
          <p:spPr>
            <a:xfrm>
              <a:off x="4788000" y="2565360"/>
              <a:ext cx="40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想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2708280"/>
              <a:ext cx="1295280" cy="576360"/>
            </a:xfrm>
            <a:prstGeom prst="rightArrow">
              <a:avLst>
                <a:gd name="adj1" fmla="val 50000"/>
                <a:gd name="adj2" fmla="val 561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843280" y="5661000"/>
            <a:ext cx="6300360" cy="764280"/>
            <a:chOff x="2843280" y="5661000"/>
            <a:chExt cx="6300360" cy="764280"/>
          </a:xfrm>
        </p:grpSpPr>
        <p:sp>
          <p:nvSpPr>
            <p:cNvPr id="250" name=""/>
            <p:cNvSpPr/>
            <p:nvPr/>
          </p:nvSpPr>
          <p:spPr>
            <a:xfrm>
              <a:off x="4501080" y="5661000"/>
              <a:ext cx="464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愿意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43280" y="5803920"/>
              <a:ext cx="1491120" cy="576360"/>
            </a:xfrm>
            <a:prstGeom prst="rightArrow">
              <a:avLst>
                <a:gd name="adj1" fmla="val 50000"/>
                <a:gd name="adj2" fmla="val 64678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要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strong dem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想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h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愿意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willingn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Read Page P177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xpress one’s desire or n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571680" y="2793960"/>
            <a:ext cx="814356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   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Make an alternative question for each of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1571760" y="5217120"/>
            <a:ext cx="5857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他是中国人还是美国人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8" name="Picture 4" descr="D:\Chinese PPT\International Chinese picture\Lesson 3\116533ef027.jpg"/>
          <p:cNvPicPr/>
          <p:nvPr/>
        </p:nvPicPr>
        <p:blipFill>
          <a:blip r:embed="rId2"/>
          <a:stretch/>
        </p:blipFill>
        <p:spPr>
          <a:xfrm>
            <a:off x="3000240" y="1357200"/>
            <a:ext cx="2957760" cy="3286080"/>
          </a:xfrm>
          <a:prstGeom prst="rect">
            <a:avLst/>
          </a:prstGeom>
          <a:ln w="0">
            <a:noFill/>
          </a:ln>
        </p:spPr>
      </p:pic>
      <p:sp>
        <p:nvSpPr>
          <p:cNvPr id="259" name="矩形 4"/>
          <p:cNvSpPr/>
          <p:nvPr/>
        </p:nvSpPr>
        <p:spPr>
          <a:xfrm>
            <a:off x="6735600" y="192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6750000" y="2924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357200" y="5288400"/>
            <a:ext cx="66438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喜欢吃中国饭还是日本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D:\Chinese PPT\International Chinese picture\Lesson 3\1_200704281641511_thumb.jpg"/>
          <p:cNvPicPr/>
          <p:nvPr/>
        </p:nvPicPr>
        <p:blipFill>
          <a:blip r:embed="rId2"/>
          <a:stretch/>
        </p:blipFill>
        <p:spPr>
          <a:xfrm>
            <a:off x="2571840" y="1857240"/>
            <a:ext cx="3686040" cy="3071880"/>
          </a:xfrm>
          <a:prstGeom prst="rect">
            <a:avLst/>
          </a:prstGeom>
          <a:ln w="0">
            <a:noFill/>
          </a:ln>
        </p:spPr>
      </p:pic>
      <p:sp>
        <p:nvSpPr>
          <p:cNvPr id="263" name="矩形 4"/>
          <p:cNvSpPr/>
          <p:nvPr/>
        </p:nvSpPr>
        <p:spPr>
          <a:xfrm>
            <a:off x="6878520" y="2286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6878520" y="35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979640" y="1071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喜欢吃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357120" y="5002920"/>
            <a:ext cx="6302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李先生是老师还是医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D:\Chinese PPT\International Chinese picture\Lesson 1\2007613141933227_2.jpg"/>
          <p:cNvPicPr/>
          <p:nvPr/>
        </p:nvPicPr>
        <p:blipFill>
          <a:blip r:embed="rId2"/>
          <a:stretch/>
        </p:blipFill>
        <p:spPr>
          <a:xfrm>
            <a:off x="6286680" y="1428840"/>
            <a:ext cx="2447640" cy="419076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4848120" y="228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848120" y="32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医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97164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李先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做什么工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714240" y="50745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我们六点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吃饭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)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七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Documents and Settings\Administrator\桌面\1-1.bmp"/>
          <p:cNvPicPr/>
          <p:nvPr/>
        </p:nvPicPr>
        <p:blipFill>
          <a:blip r:embed="rId2"/>
          <a:stretch/>
        </p:blipFill>
        <p:spPr>
          <a:xfrm>
            <a:off x="5143680" y="1500120"/>
            <a:ext cx="3314520" cy="3326040"/>
          </a:xfrm>
          <a:prstGeom prst="rect">
            <a:avLst/>
          </a:prstGeom>
          <a:ln w="0">
            <a:noFill/>
          </a:ln>
        </p:spPr>
      </p:pic>
      <p:sp>
        <p:nvSpPr>
          <p:cNvPr id="273" name="矩形 4"/>
          <p:cNvSpPr/>
          <p:nvPr/>
        </p:nvSpPr>
        <p:spPr>
          <a:xfrm>
            <a:off x="3705120" y="235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六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矩形 5"/>
          <p:cNvSpPr/>
          <p:nvPr/>
        </p:nvSpPr>
        <p:spPr>
          <a:xfrm>
            <a:off x="3705120" y="3286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七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979640" y="476280"/>
            <a:ext cx="40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们几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714240" y="48603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今天是星期四还是星期五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D:\Chinese PPT\International Chinese picture\Lesson 3\1509121N444.jpg"/>
          <p:cNvPicPr/>
          <p:nvPr/>
        </p:nvPicPr>
        <p:blipFill>
          <a:blip r:embed="rId2"/>
          <a:stretch/>
        </p:blipFill>
        <p:spPr>
          <a:xfrm>
            <a:off x="5429160" y="1785960"/>
            <a:ext cx="3353040" cy="2517840"/>
          </a:xfrm>
          <a:prstGeom prst="rect">
            <a:avLst/>
          </a:prstGeom>
          <a:ln w="0">
            <a:noFill/>
          </a:ln>
        </p:spPr>
      </p:pic>
      <p:sp>
        <p:nvSpPr>
          <p:cNvPr id="278" name="矩形 4"/>
          <p:cNvSpPr/>
          <p:nvPr/>
        </p:nvSpPr>
        <p:spPr>
          <a:xfrm>
            <a:off x="3806640" y="2357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矩形 5"/>
          <p:cNvSpPr/>
          <p:nvPr/>
        </p:nvSpPr>
        <p:spPr>
          <a:xfrm>
            <a:off x="3806640" y="3286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684360" y="2852640"/>
            <a:ext cx="1584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今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500720" cy="525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1484280"/>
            <a:ext cx="1584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836640"/>
            <a:ext cx="1150920" cy="5040360"/>
          </a:xfrm>
          <a:custGeom>
            <a:avLst/>
            <a:gdLst>
              <a:gd name="textAreaLeft" fmla="*/ 0 w 1150920"/>
              <a:gd name="textAreaRight" fmla="*/ 415440 w 115092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2421000"/>
            <a:ext cx="93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213000"/>
            <a:ext cx="1368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7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941720"/>
            <a:ext cx="1366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50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8760" y="528840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请我吃饭还是我请你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D:\Chinese PPT\International Chinese picture\Lesson 1\200811320448253_2.jpg"/>
          <p:cNvPicPr/>
          <p:nvPr/>
        </p:nvPicPr>
        <p:blipFill>
          <a:blip r:embed="rId2"/>
          <a:stretch/>
        </p:blipFill>
        <p:spPr>
          <a:xfrm>
            <a:off x="3500280" y="1285920"/>
            <a:ext cx="2752920" cy="387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Chinese PPT\International Chinese picture\Lesson 3\200856214729976_2.jpg"/>
          <p:cNvPicPr/>
          <p:nvPr/>
        </p:nvPicPr>
        <p:blipFill>
          <a:blip r:embed="rId3"/>
          <a:stretch/>
        </p:blipFill>
        <p:spPr>
          <a:xfrm>
            <a:off x="6286680" y="2000160"/>
            <a:ext cx="2631960" cy="2144880"/>
          </a:xfrm>
          <a:prstGeom prst="rect">
            <a:avLst/>
          </a:prstGeom>
          <a:ln w="0">
            <a:noFill/>
          </a:ln>
        </p:spPr>
      </p:pic>
      <p:sp>
        <p:nvSpPr>
          <p:cNvPr id="284" name="矩形 5"/>
          <p:cNvSpPr/>
          <p:nvPr/>
        </p:nvSpPr>
        <p:spPr>
          <a:xfrm>
            <a:off x="1295640" y="2357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请我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1295640" y="3286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请你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2943360" cy="3036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4797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手疼还是脚疼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168720" cy="2373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02000" cy="2243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8360" y="3573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中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350028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西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5157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愿意吃中药还是西药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42920" y="47628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做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881440" cy="2236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240000" cy="2741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258920" y="4508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43657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休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558972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锻炼身体还是休息一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ramm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8360" y="1700280"/>
            <a:ext cx="5398920" cy="4822200"/>
            <a:chOff x="468360" y="1700280"/>
            <a:chExt cx="5398920" cy="4822200"/>
          </a:xfrm>
        </p:grpSpPr>
        <p:sp>
          <p:nvSpPr>
            <p:cNvPr id="302" name=""/>
            <p:cNvSpPr/>
            <p:nvPr/>
          </p:nvSpPr>
          <p:spPr>
            <a:xfrm>
              <a:off x="539640" y="1700280"/>
              <a:ext cx="3168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有（一）点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263700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怎么了？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Vs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怎么样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>
              <a:hlinkClick r:id="rId6" action="ppaction://hlinksldjump"/>
            </p:cNvPr>
            <p:cNvSpPr/>
            <p:nvPr/>
          </p:nvSpPr>
          <p:spPr>
            <a:xfrm>
              <a:off x="539640" y="371628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7" action="ppaction://hlinksldjump"/>
                </a:rPr>
                <a:t>要，不能，不用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5805360"/>
              <a:ext cx="51829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8" action="ppaction://hlinksldjump"/>
                </a:rPr>
                <a:t>还是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640" y="4724280"/>
              <a:ext cx="53276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9" action="ppaction://hlinksldjump"/>
                </a:rPr>
                <a:t>想，要，愿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2736720" cy="188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5280" y="3213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3213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嗓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373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肚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197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4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What’s wrong with ______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933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30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is uncomfortab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384360" cy="290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牙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手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94336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35:23Z</dcterms:created>
  <dc:creator>User</dc:creator>
  <dc:description/>
  <dc:language>en-US</dc:language>
  <cp:lastModifiedBy>User</cp:lastModifiedBy>
  <dcterms:modified xsi:type="dcterms:W3CDTF">2012-04-08T11:35:36Z</dcterms:modified>
  <cp:revision>6</cp:revision>
  <dc:subject/>
  <dc:title>幻灯片 1</dc:title>
</cp:coreProperties>
</file>