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282D-B770-45D9-88C6-DBD46F78A5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Clicking the button will lead back to the first page (Objectives) where you can choose another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521-E318-44CB-AB13-B3DED383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403-C058-469D-9B78-3AA3EC1E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4F2-A823-48BF-A337-AF4E8419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ECD-D9D9-4B03-9666-700FC9F5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BB4D-59CC-49FD-A01B-B5B8A4CE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F2A2-28F5-48DF-85BA-0B1CB11D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95AC-2309-4C9F-A8ED-DEACD8C6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D6DF-9224-4854-A051-5A1EF1EA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E1FD-27E2-4774-BB54-401B6E31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E2312-95B4-458A-9EFC-0E2D0D43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90DA-14DF-44DE-A351-3B378CCB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72A-AE32-44D6-9D6E-3DF02D3E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9AA2-DAEE-44A2-A58B-7026C399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80D7-DFA2-4E9C-AD41-D25DB74D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8EC2-BF35-414E-A79A-B233D599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F684-3791-4427-BCCB-AF7172C0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F38F-5EDC-4685-A7F0-97F8721B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A3A-D59A-4084-9E3D-93822292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B92-A6F9-4006-A234-121CA450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601F-87B7-43EB-9A84-FFFE43AC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5568-B959-453A-BD9B-74A6ABDC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4CE-A902-4747-9F5F-CEE8EDE9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A73-AC45-4807-AA67-73C7B635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C08-E863-4388-A340-A437C05E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6D9C-2F0B-4100-9D9F-A629438120C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B137-488E-4A38-819E-8D979F3204D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44.xml"/><Relationship Id="rId10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slide21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34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我全身不舒服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嗓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2808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肚子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脚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9079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炎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270828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79736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2781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a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4797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 a co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981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ve inflam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093080" y="198900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6804000" y="4292640"/>
            <a:ext cx="2038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213372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64500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我头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1873080" cy="18734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4653000"/>
            <a:ext cx="1944720" cy="16714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肚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嗓子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443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牙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04000" y="4365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手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ir 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124000" y="1844640"/>
            <a:ext cx="20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04000" y="170028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感冒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热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1552320" cy="2049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356000" y="177336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95640" y="436572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我   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点儿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24000" y="47242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4643280" y="4292640"/>
            <a:ext cx="15861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ually for negative feelings and thin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有（一）点儿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+ adj/verb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08720" y="47242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8000" y="47242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医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0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生病了，你应该。。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2519280" cy="1881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1868400" cy="2584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116000" y="4581360"/>
            <a:ext cx="6551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医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医院看病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00360" y="333360"/>
            <a:ext cx="36720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227664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2" action="ppaction://hlinksldjump"/>
              </a:rPr>
              <a:t>Body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3" action="ppaction://hlinksldjump"/>
              </a:rPr>
              <a:t>身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48360" y="2276640"/>
            <a:ext cx="3166920" cy="718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4" action="ppaction://hlinksldjump"/>
              </a:rPr>
              <a:t>Sickness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5" action="ppaction://hlinksldjump"/>
              </a:rPr>
              <a:t>生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443700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6" action="ppaction://hlinksldjump"/>
              </a:rPr>
              <a:t>See doctor 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宋体"/>
                <a:hlinkClick r:id="rId7" action="ppaction://hlinksldjump"/>
              </a:rPr>
              <a:t>看病</a:t>
            </a:r>
            <a:r>
              <a:rPr b="0" lang="zh-CN" sz="2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4365720"/>
            <a:ext cx="3166920" cy="72072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Gramm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708360" y="1341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3068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你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了？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Vs 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916280"/>
            <a:ext cx="9144000" cy="2104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’s wrong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What happened to you?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（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ave no prior knowledge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292640"/>
            <a:ext cx="9144000" cy="1434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is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How are you?                  </a:t>
            </a:r>
            <a:r>
              <a:rPr b="0" lang="zh-CN" sz="4400" spc="-1" strike="noStrike">
                <a:solidFill>
                  <a:srgbClr val="2b5481"/>
                </a:solidFill>
                <a:latin typeface="Tahoma"/>
              </a:rPr>
              <a:t>怎么样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2038320" cy="2200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3500280"/>
            <a:ext cx="748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感冒了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天气很冷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穿很少的衣服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5796000" y="620640"/>
            <a:ext cx="2914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我肚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昨天晚上我吃了太多饭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5292720" y="549360"/>
            <a:ext cx="309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3860640"/>
            <a:ext cx="7488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她嗓子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她是老师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每天说很多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4859280" y="1916280"/>
            <a:ext cx="3998880" cy="26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132000" y="1484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因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3860640"/>
            <a:ext cx="74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他很头疼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因为他有很多作业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003640" y="861840"/>
            <a:ext cx="381636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868760" cy="2584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276720" y="1413000"/>
            <a:ext cx="626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35280" y="1268280"/>
            <a:ext cx="453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医生会说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276720" y="263700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751280" y="1484280"/>
            <a:ext cx="4392360" cy="5031000"/>
            <a:chOff x="4751280" y="1484280"/>
            <a:chExt cx="4392360" cy="5031000"/>
          </a:xfrm>
        </p:grpSpPr>
        <p:sp>
          <p:nvSpPr>
            <p:cNvPr id="226" name=""/>
            <p:cNvSpPr/>
            <p:nvPr/>
          </p:nvSpPr>
          <p:spPr>
            <a:xfrm>
              <a:off x="5470200" y="148428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休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喝水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（多）穿衣服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去医院看病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吃药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51280" y="162900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2867040" cy="30956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132000" y="141300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148360" y="404640"/>
            <a:ext cx="4392360" cy="5031000"/>
            <a:chOff x="5148360" y="404640"/>
            <a:chExt cx="4392360" cy="5031000"/>
          </a:xfrm>
        </p:grpSpPr>
        <p:sp>
          <p:nvSpPr>
            <p:cNvPr id="231" name=""/>
            <p:cNvSpPr/>
            <p:nvPr/>
          </p:nvSpPr>
          <p:spPr>
            <a:xfrm>
              <a:off x="5867280" y="404640"/>
              <a:ext cx="3673440" cy="50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上课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锻炼身体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打球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跳舞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ahoma"/>
                </a:rPr>
                <a:t>做作业。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8360" y="549360"/>
              <a:ext cx="431640" cy="316692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82440 h 3166920"/>
                <a:gd name="textAreaBottom" fmla="*/ 3084480 h 31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68360" y="5084640"/>
            <a:ext cx="201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ahoma"/>
              </a:rPr>
              <a:t>不用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360" y="5229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住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，不能，不用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要：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ave to,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能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can not to. 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可以”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s OK to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 don’t nee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03280" y="404280"/>
            <a:ext cx="6121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558972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:0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564000" y="2060640"/>
            <a:ext cx="2303280" cy="2047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:30 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3110040" cy="2070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56360" y="5661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:15 p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2060640"/>
            <a:ext cx="237636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659640" y="69228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1944720" cy="1671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685880" cy="1739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564000" y="1052640"/>
            <a:ext cx="1728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ahoma"/>
              </a:rPr>
              <a:t>不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755640" y="404640"/>
            <a:ext cx="2087640" cy="586188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看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不高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上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唱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去学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天气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64000" y="333360"/>
            <a:ext cx="2735280" cy="5861880"/>
          </a:xfrm>
          <a:prstGeom prst="rect">
            <a:avLst/>
          </a:prstGeom>
          <a:solidFill>
            <a:srgbClr val="e5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挂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打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睡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听音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ahoma"/>
              </a:rPr>
              <a:t>多穿衣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要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想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我愿意吃烤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565360"/>
            <a:ext cx="5472000" cy="764280"/>
            <a:chOff x="3348000" y="2565360"/>
            <a:chExt cx="5472000" cy="764280"/>
          </a:xfrm>
        </p:grpSpPr>
        <p:sp>
          <p:nvSpPr>
            <p:cNvPr id="247" name=""/>
            <p:cNvSpPr/>
            <p:nvPr/>
          </p:nvSpPr>
          <p:spPr>
            <a:xfrm>
              <a:off x="4788000" y="2565360"/>
              <a:ext cx="403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想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2708280"/>
              <a:ext cx="1295280" cy="576360"/>
            </a:xfrm>
            <a:prstGeom prst="rightArrow">
              <a:avLst>
                <a:gd name="adj1" fmla="val 50000"/>
                <a:gd name="adj2" fmla="val 56184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843280" y="5661000"/>
            <a:ext cx="6300360" cy="764280"/>
            <a:chOff x="2843280" y="5661000"/>
            <a:chExt cx="6300360" cy="764280"/>
          </a:xfrm>
        </p:grpSpPr>
        <p:sp>
          <p:nvSpPr>
            <p:cNvPr id="250" name=""/>
            <p:cNvSpPr/>
            <p:nvPr/>
          </p:nvSpPr>
          <p:spPr>
            <a:xfrm>
              <a:off x="4501080" y="5661000"/>
              <a:ext cx="4642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我</a:t>
              </a:r>
              <a:r>
                <a:rPr b="1" lang="zh-CN" sz="4400" spc="-1" strike="noStrike">
                  <a:solidFill>
                    <a:srgbClr val="ffcc00"/>
                  </a:solidFill>
                  <a:latin typeface="Tahoma"/>
                </a:rPr>
                <a:t>不愿意</a:t>
              </a:r>
              <a:r>
                <a:rPr b="1" lang="zh-CN" sz="4400" spc="-1" strike="noStrike">
                  <a:solidFill>
                    <a:srgbClr val="ffffff"/>
                  </a:solidFill>
                  <a:latin typeface="Tahoma"/>
                </a:rPr>
                <a:t>吃烤鸭。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43280" y="5803920"/>
              <a:ext cx="1491120" cy="576360"/>
            </a:xfrm>
            <a:prstGeom prst="rightArrow">
              <a:avLst>
                <a:gd name="adj1" fmla="val 50000"/>
                <a:gd name="adj2" fmla="val 64678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ffff"/>
                </a:solidFill>
                <a:latin typeface="Tahoma"/>
              </a:rPr>
              <a:t>要，想，愿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要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strong deman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想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intention and hop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愿意”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is willingn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Read Page P177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xpress one’s desire or n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571680" y="2793960"/>
            <a:ext cx="814356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   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..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Make an alternative question for each of the follow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1571760" y="5217120"/>
            <a:ext cx="5857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他是中国人还是美国人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ffff"/>
                </a:solidFill>
                <a:latin typeface="Tahoma"/>
                <a:ea typeface="宋体"/>
              </a:rPr>
              <a:t>Alternative question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8" name="Picture 4" descr="D:\Chinese PPT\International Chinese picture\Lesson 3\116533ef027.jpg"/>
          <p:cNvPicPr/>
          <p:nvPr/>
        </p:nvPicPr>
        <p:blipFill>
          <a:blip r:embed="rId2"/>
          <a:stretch/>
        </p:blipFill>
        <p:spPr>
          <a:xfrm>
            <a:off x="3000240" y="1357200"/>
            <a:ext cx="2957760" cy="3286080"/>
          </a:xfrm>
          <a:prstGeom prst="rect">
            <a:avLst/>
          </a:prstGeom>
          <a:ln w="0">
            <a:noFill/>
          </a:ln>
        </p:spPr>
      </p:pic>
      <p:sp>
        <p:nvSpPr>
          <p:cNvPr id="259" name="矩形 4"/>
          <p:cNvSpPr/>
          <p:nvPr/>
        </p:nvSpPr>
        <p:spPr>
          <a:xfrm>
            <a:off x="6735600" y="1928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6750000" y="29242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1357200" y="5288400"/>
            <a:ext cx="66438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喜欢吃中国饭还是日本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D:\Chinese PPT\International Chinese picture\Lesson 3\1_200704281641511_thumb.jpg"/>
          <p:cNvPicPr/>
          <p:nvPr/>
        </p:nvPicPr>
        <p:blipFill>
          <a:blip r:embed="rId2"/>
          <a:stretch/>
        </p:blipFill>
        <p:spPr>
          <a:xfrm>
            <a:off x="2571840" y="1857240"/>
            <a:ext cx="3686040" cy="3071880"/>
          </a:xfrm>
          <a:prstGeom prst="rect">
            <a:avLst/>
          </a:prstGeom>
          <a:ln w="0">
            <a:noFill/>
          </a:ln>
        </p:spPr>
      </p:pic>
      <p:sp>
        <p:nvSpPr>
          <p:cNvPr id="263" name="矩形 4"/>
          <p:cNvSpPr/>
          <p:nvPr/>
        </p:nvSpPr>
        <p:spPr>
          <a:xfrm>
            <a:off x="6878520" y="2286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中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6878520" y="3500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美国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1979640" y="107172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喜欢吃什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357120" y="5002920"/>
            <a:ext cx="63025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李先生是老师还是医生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D:\Chinese PPT\International Chinese picture\Lesson 1\2007613141933227_2.jpg"/>
          <p:cNvPicPr/>
          <p:nvPr/>
        </p:nvPicPr>
        <p:blipFill>
          <a:blip r:embed="rId2"/>
          <a:stretch/>
        </p:blipFill>
        <p:spPr>
          <a:xfrm>
            <a:off x="6286680" y="1428840"/>
            <a:ext cx="2447640" cy="4190760"/>
          </a:xfrm>
          <a:prstGeom prst="rect">
            <a:avLst/>
          </a:prstGeom>
          <a:ln w="0">
            <a:noFill/>
          </a:ln>
        </p:spPr>
      </p:pic>
      <p:sp>
        <p:nvSpPr>
          <p:cNvPr id="268" name="矩形 4"/>
          <p:cNvSpPr/>
          <p:nvPr/>
        </p:nvSpPr>
        <p:spPr>
          <a:xfrm>
            <a:off x="4848120" y="2286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老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矩形 5"/>
          <p:cNvSpPr/>
          <p:nvPr/>
        </p:nvSpPr>
        <p:spPr>
          <a:xfrm>
            <a:off x="4848120" y="32148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医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97164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楷体"/>
              </a:rPr>
              <a:t>李先生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做什么工作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714240" y="50745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我们六点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(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吃饭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)</a:t>
            </a: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还是七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C:\Documents and Settings\Administrator\桌面\1-1.bmp"/>
          <p:cNvPicPr/>
          <p:nvPr/>
        </p:nvPicPr>
        <p:blipFill>
          <a:blip r:embed="rId2"/>
          <a:stretch/>
        </p:blipFill>
        <p:spPr>
          <a:xfrm>
            <a:off x="5143680" y="1500120"/>
            <a:ext cx="3314520" cy="3326040"/>
          </a:xfrm>
          <a:prstGeom prst="rect">
            <a:avLst/>
          </a:prstGeom>
          <a:ln w="0">
            <a:noFill/>
          </a:ln>
        </p:spPr>
      </p:pic>
      <p:sp>
        <p:nvSpPr>
          <p:cNvPr id="273" name="矩形 4"/>
          <p:cNvSpPr/>
          <p:nvPr/>
        </p:nvSpPr>
        <p:spPr>
          <a:xfrm>
            <a:off x="3705120" y="2357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六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矩形 5"/>
          <p:cNvSpPr/>
          <p:nvPr/>
        </p:nvSpPr>
        <p:spPr>
          <a:xfrm>
            <a:off x="3705120" y="3286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七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979640" y="476280"/>
            <a:ext cx="401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们几点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714240" y="486036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今天是星期四还是星期五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D:\Chinese PPT\International Chinese picture\Lesson 3\1509121N444.jpg"/>
          <p:cNvPicPr/>
          <p:nvPr/>
        </p:nvPicPr>
        <p:blipFill>
          <a:blip r:embed="rId2"/>
          <a:stretch/>
        </p:blipFill>
        <p:spPr>
          <a:xfrm>
            <a:off x="5429160" y="1785960"/>
            <a:ext cx="3353040" cy="2517840"/>
          </a:xfrm>
          <a:prstGeom prst="rect">
            <a:avLst/>
          </a:prstGeom>
          <a:ln w="0">
            <a:noFill/>
          </a:ln>
        </p:spPr>
      </p:pic>
      <p:sp>
        <p:nvSpPr>
          <p:cNvPr id="278" name="矩形 4"/>
          <p:cNvSpPr/>
          <p:nvPr/>
        </p:nvSpPr>
        <p:spPr>
          <a:xfrm>
            <a:off x="3806640" y="2357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矩形 5"/>
          <p:cNvSpPr/>
          <p:nvPr/>
        </p:nvSpPr>
        <p:spPr>
          <a:xfrm>
            <a:off x="3806640" y="3286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星期五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684360" y="2852640"/>
            <a:ext cx="1584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今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4500720" cy="5256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35280" y="1484280"/>
            <a:ext cx="1584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05264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836640"/>
            <a:ext cx="1150920" cy="5040360"/>
          </a:xfrm>
          <a:custGeom>
            <a:avLst/>
            <a:gdLst>
              <a:gd name="textAreaLeft" fmla="*/ 0 w 1150920"/>
              <a:gd name="textAreaRight" fmla="*/ 415440 w 115092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2421000"/>
            <a:ext cx="93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3213000"/>
            <a:ext cx="1368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278136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4941720"/>
            <a:ext cx="1366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50864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8760" y="5288400"/>
            <a:ext cx="81439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ffff"/>
                </a:solidFill>
                <a:latin typeface="Times New Roman"/>
                <a:ea typeface="华文楷体"/>
              </a:rPr>
              <a:t>你请我吃饭还是我请你吃饭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D:\Chinese PPT\International Chinese picture\Lesson 1\200811320448253_2.jpg"/>
          <p:cNvPicPr/>
          <p:nvPr/>
        </p:nvPicPr>
        <p:blipFill>
          <a:blip r:embed="rId2"/>
          <a:stretch/>
        </p:blipFill>
        <p:spPr>
          <a:xfrm>
            <a:off x="3500280" y="1285920"/>
            <a:ext cx="2752920" cy="38764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D:\Chinese PPT\International Chinese picture\Lesson 3\200856214729976_2.jpg"/>
          <p:cNvPicPr/>
          <p:nvPr/>
        </p:nvPicPr>
        <p:blipFill>
          <a:blip r:embed="rId3"/>
          <a:stretch/>
        </p:blipFill>
        <p:spPr>
          <a:xfrm>
            <a:off x="6286680" y="2000160"/>
            <a:ext cx="2631960" cy="2144880"/>
          </a:xfrm>
          <a:prstGeom prst="rect">
            <a:avLst/>
          </a:prstGeom>
          <a:ln w="0">
            <a:noFill/>
          </a:ln>
        </p:spPr>
      </p:pic>
      <p:sp>
        <p:nvSpPr>
          <p:cNvPr id="284" name="矩形 5"/>
          <p:cNvSpPr/>
          <p:nvPr/>
        </p:nvSpPr>
        <p:spPr>
          <a:xfrm>
            <a:off x="1295640" y="2357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你请我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1295640" y="32860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我请你吃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2943360" cy="3036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00000" y="4797360"/>
            <a:ext cx="68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手疼还是脚疼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168720" cy="23731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4932360" y="692280"/>
            <a:ext cx="3402000" cy="22431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8360" y="357336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中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6720" y="3500280"/>
            <a:ext cx="31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西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5157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愿意吃中药还是西药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042920" y="47628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做什么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2881440" cy="22366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148360" y="1413000"/>
            <a:ext cx="3240000" cy="27414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258920" y="450864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锻炼身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43657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休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558972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你想锻炼身体还是休息一下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Gramm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68360" y="1700280"/>
            <a:ext cx="5398920" cy="4822200"/>
            <a:chOff x="468360" y="1700280"/>
            <a:chExt cx="5398920" cy="4822200"/>
          </a:xfrm>
        </p:grpSpPr>
        <p:sp>
          <p:nvSpPr>
            <p:cNvPr id="302" name=""/>
            <p:cNvSpPr/>
            <p:nvPr/>
          </p:nvSpPr>
          <p:spPr>
            <a:xfrm>
              <a:off x="539640" y="1700280"/>
              <a:ext cx="31687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有（一）点儿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8360" y="263700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怎么了？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Vs </a:t>
              </a: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怎么样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>
              <a:hlinkClick r:id="rId6" action="ppaction://hlinksldjump"/>
            </p:cNvPr>
            <p:cNvSpPr/>
            <p:nvPr/>
          </p:nvSpPr>
          <p:spPr>
            <a:xfrm>
              <a:off x="539640" y="3716280"/>
              <a:ext cx="51832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7" action="ppaction://hlinksldjump"/>
                </a:rPr>
                <a:t>要，不能，不用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280" y="5805360"/>
              <a:ext cx="51829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8" action="ppaction://hlinksldjump"/>
                </a:rPr>
                <a:t>还是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9640" y="4724280"/>
              <a:ext cx="53276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 u="sng">
                  <a:solidFill>
                    <a:srgbClr val="00ccff"/>
                  </a:solidFill>
                  <a:uFillTx/>
                  <a:latin typeface="Tahoma"/>
                  <a:hlinkClick r:id="rId9" action="ppaction://hlinksldjump"/>
                </a:rPr>
                <a:t>想，要，愿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604360" y="6308640"/>
            <a:ext cx="539640" cy="549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89">
                <a:moveTo>
                  <a:pt x="0" y="0"/>
                </a:moveTo>
                <a:lnTo>
                  <a:pt x="21600" y="0"/>
                </a:lnTo>
                <a:lnTo>
                  <a:pt x="21600" y="21989"/>
                </a:lnTo>
                <a:lnTo>
                  <a:pt x="0" y="21989"/>
                </a:lnTo>
                <a:close/>
              </a:path>
              <a:path fill="lightenLess" w="21600" h="21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89">
                <a:moveTo>
                  <a:pt x="21600" y="0"/>
                </a:moveTo>
                <a:lnTo>
                  <a:pt x="21600" y="21989"/>
                </a:lnTo>
                <a:lnTo>
                  <a:pt x="20200" y="20589"/>
                </a:lnTo>
                <a:lnTo>
                  <a:pt x="20200" y="1400"/>
                </a:lnTo>
                <a:close/>
              </a:path>
              <a:path fill="darkenLess" w="21600" h="21989">
                <a:moveTo>
                  <a:pt x="21600" y="21989"/>
                </a:moveTo>
                <a:lnTo>
                  <a:pt x="0" y="21989"/>
                </a:lnTo>
                <a:lnTo>
                  <a:pt x="1400" y="20589"/>
                </a:lnTo>
                <a:lnTo>
                  <a:pt x="20200" y="20589"/>
                </a:lnTo>
                <a:close/>
              </a:path>
              <a:path fill="lighten" w="21600" h="21989">
                <a:moveTo>
                  <a:pt x="0" y="21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89"/>
                </a:lnTo>
                <a:close/>
              </a:path>
              <a:path fill="darken" w="21600" h="21989">
                <a:moveTo>
                  <a:pt x="10800" y="4031"/>
                </a:moveTo>
                <a:lnTo>
                  <a:pt x="13376" y="6643"/>
                </a:ln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lnTo>
                  <a:pt x="17763" y="10994"/>
                </a:lnTo>
                <a:lnTo>
                  <a:pt x="16109" y="10994"/>
                </a:lnTo>
                <a:lnTo>
                  <a:pt x="16109" y="18184"/>
                </a:lnTo>
                <a:lnTo>
                  <a:pt x="5491" y="18184"/>
                </a:lnTo>
                <a:lnTo>
                  <a:pt x="5491" y="10994"/>
                </a:lnTo>
                <a:lnTo>
                  <a:pt x="3837" y="10994"/>
                </a:lnTo>
                <a:close/>
              </a:path>
              <a:path fill="darkenLess" w="21600" h="21989">
                <a:moveTo>
                  <a:pt x="13376" y="6643"/>
                </a:moveTo>
                <a:lnTo>
                  <a:pt x="13376" y="4902"/>
                </a:lnTo>
                <a:lnTo>
                  <a:pt x="15152" y="4902"/>
                </a:lnTo>
                <a:lnTo>
                  <a:pt x="15152" y="8418"/>
                </a:lnTo>
                <a:close/>
              </a:path>
              <a:path fill="darkenLess" w="21600" h="21989">
                <a:moveTo>
                  <a:pt x="9877" y="14493"/>
                </a:moveTo>
                <a:lnTo>
                  <a:pt x="11723" y="14493"/>
                </a:lnTo>
                <a:lnTo>
                  <a:pt x="11723" y="18184"/>
                </a:lnTo>
                <a:lnTo>
                  <a:pt x="16109" y="18184"/>
                </a:lnTo>
                <a:lnTo>
                  <a:pt x="16109" y="10994"/>
                </a:lnTo>
                <a:lnTo>
                  <a:pt x="5491" y="10994"/>
                </a:lnTo>
                <a:lnTo>
                  <a:pt x="5491" y="18184"/>
                </a:lnTo>
                <a:lnTo>
                  <a:pt x="9877" y="181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220968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2736720" cy="188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835280" y="321300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0360" y="321300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嗓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21940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580000" y="53737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肚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12017" y="3837"/>
                </a:moveTo>
                <a:lnTo>
                  <a:pt x="14593" y="6448"/>
                </a:ln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lnTo>
                  <a:pt x="18979" y="10800"/>
                </a:lnTo>
                <a:lnTo>
                  <a:pt x="17326" y="10800"/>
                </a:lnTo>
                <a:lnTo>
                  <a:pt x="17326" y="17989"/>
                </a:lnTo>
                <a:lnTo>
                  <a:pt x="6707" y="17989"/>
                </a:lnTo>
                <a:lnTo>
                  <a:pt x="6707" y="10800"/>
                </a:lnTo>
                <a:lnTo>
                  <a:pt x="5054" y="10800"/>
                </a:lnTo>
                <a:close/>
              </a:path>
              <a:path fill="darkenLess" w="24033" h="21600">
                <a:moveTo>
                  <a:pt x="14593" y="6448"/>
                </a:moveTo>
                <a:lnTo>
                  <a:pt x="14593" y="4707"/>
                </a:lnTo>
                <a:lnTo>
                  <a:pt x="16368" y="4707"/>
                </a:lnTo>
                <a:lnTo>
                  <a:pt x="16368" y="8224"/>
                </a:lnTo>
                <a:close/>
              </a:path>
              <a:path fill="darkenLess" w="24033" h="21600">
                <a:moveTo>
                  <a:pt x="11094" y="14299"/>
                </a:moveTo>
                <a:lnTo>
                  <a:pt x="12939" y="14299"/>
                </a:lnTo>
                <a:lnTo>
                  <a:pt x="12939" y="17989"/>
                </a:lnTo>
                <a:lnTo>
                  <a:pt x="17326" y="17989"/>
                </a:lnTo>
                <a:lnTo>
                  <a:pt x="17326" y="10800"/>
                </a:lnTo>
                <a:lnTo>
                  <a:pt x="6707" y="10800"/>
                </a:lnTo>
                <a:lnTo>
                  <a:pt x="6707" y="17989"/>
                </a:lnTo>
                <a:lnTo>
                  <a:pt x="11094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1197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_____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4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What’s wrong with ______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39337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530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ere is uncomfortab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3384360" cy="290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她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她牙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头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211640" y="692280"/>
            <a:ext cx="11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ahoma"/>
              </a:rPr>
              <a:t>问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11640" y="4292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ahoma"/>
              </a:rPr>
              <a:t>回答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56000" y="1989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怎么了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27640" y="306864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他哪儿不舒服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5445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他手疼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294336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7T13:35:23Z</dcterms:created>
  <dc:creator>User</dc:creator>
  <dc:description/>
  <dc:language>en-US</dc:language>
  <cp:lastModifiedBy>User</cp:lastModifiedBy>
  <dcterms:modified xsi:type="dcterms:W3CDTF">2012-04-08T11:35:36Z</dcterms:modified>
  <cp:revision>6</cp:revision>
  <dc:subject/>
  <dc:title>幻灯片 1</dc:title>
</cp:coreProperties>
</file>